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F4D0-5349-40F1-8C6A-486A0B239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28240" y="402084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36A5-8624-4F78-90B4-318D85F5B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2340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6EAB-83D2-474A-A1DE-6BB0CA603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06216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89608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22824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06216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589608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641F-088F-4063-8AC3-D15467AB3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CC2D6-7A95-4467-A980-DAC06DF6F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745CE-EE34-4FB6-BFB2-68DFCDCB2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1B8D0-7D12-4B69-99DB-536DE4CD6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D4B6B-EB06-45CF-AE9B-B8A03813E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FFF12-AA0A-4956-A822-257DEC854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228240" y="380520"/>
            <a:ext cx="8381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9627A-BD7C-4757-9770-8260CE302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728B0-568C-4A73-920A-0EC4A3573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5218-BD6A-45E2-97F1-EDBE4C1E5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2340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2D5D8-915F-4D27-906E-BEFC0D6A8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0C45A-913C-4339-84B6-EB9CD60BA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28240" y="402084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948D3-0670-4D4B-8FE8-862CF136E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2340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58D58-2068-4AD9-A08E-92E6A688E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06216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89608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22824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06216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89608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5FD96-86C5-4DE8-9558-D20BDE24C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5A04-5057-4286-9515-C4D90F97F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060D-251F-4963-AD50-6CADD41DC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BF43-A247-44DB-B775-5905701B2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228240" y="380520"/>
            <a:ext cx="8381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C4A0-8AA4-447A-95ED-CE93E86FE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4651-60F0-4456-A34A-55DFDF335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2340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DABF-30A0-4317-B3A7-08AC357CF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06C3-A045-4ECD-B9DD-86C7965BD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70600"/>
            <a:chOff x="0" y="0"/>
            <a:chExt cx="9144000" cy="6870600"/>
          </a:xfrm>
        </p:grpSpPr>
        <p:sp>
          <p:nvSpPr>
            <p:cNvPr id="1" name=""/>
            <p:cNvSpPr/>
            <p:nvPr/>
          </p:nvSpPr>
          <p:spPr>
            <a:xfrm>
              <a:off x="6248520" y="6095880"/>
              <a:ext cx="2743200" cy="76212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maneki" descr=""/>
            <p:cNvPicPr/>
            <p:nvPr/>
          </p:nvPicPr>
          <p:blipFill>
            <a:blip r:embed="rId2"/>
            <a:stretch/>
          </p:blipFill>
          <p:spPr>
            <a:xfrm>
              <a:off x="7518240" y="5029200"/>
              <a:ext cx="1100160" cy="15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8763120" y="0"/>
              <a:ext cx="7596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8839080" y="0"/>
              <a:ext cx="304920" cy="6870600"/>
              <a:chOff x="8839080" y="0"/>
              <a:chExt cx="304920" cy="6870600"/>
            </a:xfrm>
          </p:grpSpPr>
          <p:sp>
            <p:nvSpPr>
              <p:cNvPr id="5" name=""/>
              <p:cNvSpPr/>
              <p:nvPr/>
            </p:nvSpPr>
            <p:spPr>
              <a:xfrm>
                <a:off x="8839080" y="0"/>
                <a:ext cx="304920" cy="6858000"/>
              </a:xfrm>
              <a:prstGeom prst="rect">
                <a:avLst/>
              </a:prstGeom>
              <a:solidFill>
                <a:srgbClr val="c127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839080" y="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591212"/>
                  </a:gs>
                  <a:gs pos="100000">
                    <a:srgbClr val="c1272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839080" y="641340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c12727"/>
                  </a:gs>
                  <a:gs pos="100000">
                    <a:srgbClr val="59121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678168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1" marL="743040" indent="-285840">
              <a:spcBef>
                <a:spcPts val="799"/>
              </a:spcBef>
              <a:buClr>
                <a:srgbClr val="996600"/>
              </a:buClr>
              <a:buSzPct val="75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2" marL="1143000" indent="-228600">
              <a:spcBef>
                <a:spcPts val="799"/>
              </a:spcBef>
              <a:buClr>
                <a:srgbClr val="c12727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3" marL="1600200" indent="-228600">
              <a:spcBef>
                <a:spcPts val="799"/>
              </a:spcBef>
              <a:buClr>
                <a:srgbClr val="9966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2438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5638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A2CB6-5AC3-47C5-8313-9DBCDF22E745}" type="slidenum">
              <a:rPr b="0" lang="ja-JP" sz="1400" spc="-1" strike="noStrike">
                <a:solidFill>
                  <a:srgbClr val="000000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0"/>
            <a:ext cx="9144000" cy="6870600"/>
            <a:chOff x="0" y="0"/>
            <a:chExt cx="9144000" cy="6870600"/>
          </a:xfrm>
        </p:grpSpPr>
        <p:sp>
          <p:nvSpPr>
            <p:cNvPr id="53" name=""/>
            <p:cNvSpPr/>
            <p:nvPr/>
          </p:nvSpPr>
          <p:spPr>
            <a:xfrm>
              <a:off x="6248520" y="6095880"/>
              <a:ext cx="2743200" cy="76212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4" name="maneki" descr=""/>
            <p:cNvPicPr/>
            <p:nvPr/>
          </p:nvPicPr>
          <p:blipFill>
            <a:blip r:embed="rId2"/>
            <a:stretch/>
          </p:blipFill>
          <p:spPr>
            <a:xfrm>
              <a:off x="7518240" y="5029200"/>
              <a:ext cx="1100160" cy="15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8763120" y="0"/>
              <a:ext cx="7596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8839080" y="0"/>
              <a:ext cx="304920" cy="6870600"/>
              <a:chOff x="8839080" y="0"/>
              <a:chExt cx="304920" cy="6870600"/>
            </a:xfrm>
          </p:grpSpPr>
          <p:sp>
            <p:nvSpPr>
              <p:cNvPr id="57" name=""/>
              <p:cNvSpPr/>
              <p:nvPr/>
            </p:nvSpPr>
            <p:spPr>
              <a:xfrm>
                <a:off x="8839080" y="0"/>
                <a:ext cx="304920" cy="6858000"/>
              </a:xfrm>
              <a:prstGeom prst="rect">
                <a:avLst/>
              </a:prstGeom>
              <a:solidFill>
                <a:srgbClr val="c127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839080" y="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591212"/>
                  </a:gs>
                  <a:gs pos="100000">
                    <a:srgbClr val="c1272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839080" y="641340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c12727"/>
                  </a:gs>
                  <a:gs pos="100000">
                    <a:srgbClr val="59121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678168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dt" idx="4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5"/>
          </p:nvPr>
        </p:nvSpPr>
        <p:spPr>
          <a:xfrm>
            <a:off x="2438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6"/>
          </p:nvPr>
        </p:nvSpPr>
        <p:spPr>
          <a:xfrm>
            <a:off x="5638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F5BD1-7F5D-4AFA-8B24-14EA695E19C1}" type="slidenum">
              <a:rPr b="0" lang="ja-JP" sz="1400" spc="-1" strike="noStrike">
                <a:solidFill>
                  <a:srgbClr val="000000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  <a:p>
            <a:pPr lvl="2" marL="914400" algn="ctr">
              <a:spcBef>
                <a:spcPts val="601"/>
              </a:spcBef>
              <a:buClr>
                <a:srgbClr val="c12727"/>
              </a:buClr>
              <a:buSzPct val="85000"/>
              <a:buFont typeface="Impact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  <a:p>
            <a:pPr lvl="3" marL="1371600" algn="ctr">
              <a:spcBef>
                <a:spcPts val="499"/>
              </a:spcBef>
              <a:buClr>
                <a:srgbClr val="996600"/>
              </a:buClr>
              <a:buSzPct val="85000"/>
              <a:buFont typeface="Impact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22856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Impact"/>
              </a:rPr>
              <a:t>Microsoft PowerPoint </a:t>
            </a: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テスト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2193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これは </a:t>
            </a: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MS PowerPoint </a:t>
            </a: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ファイルです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1</a:t>
            </a: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ページ目タイトル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1</a:t>
            </a: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ページ目本文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2</a:t>
            </a: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ページ目タイトル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2</a:t>
            </a: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ページ目本文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5T10:41:34Z</dcterms:created>
  <dc:creator>著者</dc:creator>
  <dc:description/>
  <dc:language>en-US</dc:language>
  <cp:lastModifiedBy>NaCl</cp:lastModifiedBy>
  <dcterms:modified xsi:type="dcterms:W3CDTF">2005-07-08T02:25:04Z</dcterms:modified>
  <cp:revision>3</cp:revision>
  <dc:subject/>
  <dc:title>タイトル</dc:title>
</cp:coreProperties>
</file>