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D817-0FC9-4565-B355-96C5CF6CC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5A27-B8D5-47BA-AFEB-2CD6CBB57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35219B-49F1-4D0F-A605-8A003850B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D6A420-9EB1-4C95-9261-803A7F2EB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B8D3ED-A981-42EF-8248-33AE2996C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4A4158-A39D-4CBD-8841-89D88B7E7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86B58C-DFA7-4F72-A59E-C5BB1A7AA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97A79C-BB61-4024-8826-4BC10D441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5AA80E-3B70-45B2-9DD4-EDBBF67D6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B86CEA-70B2-45D5-BB5D-A8A5A8F70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CAFD92-D853-4CF8-8B41-A8F2A43A4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38DB4B6-352C-4565-984F-2823CE943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FEB4-C68D-4ECF-807A-7E636D143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CB5F7C8-B839-4289-AFA2-7E86B1320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5322162-9B78-4149-A589-30E30EC2E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D6CDC2D-9B62-4D43-952D-49B4458AC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8209FA8-F093-409E-9847-8D1784F2F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0D10130-7AF8-495E-859E-F3D482B29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7E88446-C3DC-48C7-8EEE-A893995D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2E11F81-C5C0-471B-9B2F-1A8B44999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E221837-596C-4CC2-B858-0D6F101F0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4278982-0B05-4168-BA2A-10C092853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01EEE28-22FE-4BA6-BEED-A7FE2141A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ECA0-84E1-4887-BFD8-DA07B9A95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1EE7DD7-7DBD-4707-8000-A76CE2925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590A35-143E-4EC9-96E0-CC2A740EC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DDF10D-BE64-48EF-A91C-41D15B055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A55615-052E-4DA9-895D-7AFCD9A7D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D31C33-9ABE-4880-9EEB-3F59135C0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CF6073-05ED-4D25-BD71-882887124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4C00A7-E1D2-4C75-A9CA-C8A3182CF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84C705-B8EF-4981-96BD-1324D2EDC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3C8E67-3C22-45C1-ADDB-C41AF7E85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62D644-CB06-463D-AF46-BCF4F098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19473-CB54-4F66-BF4B-A31E84535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C1AEFB-E4EF-4A78-B578-99CF7A1DE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98D44E-ABDD-4F55-ABBC-17EB47B8F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FB5C63-1886-4EE9-8DFE-051EE4F3B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E39EE7-3321-41AD-9F16-16F98052D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48A3D9-72EA-4C1F-A87F-2C9DA4721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0F5038-09F4-420E-BFA6-9B46EB958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FE50D3-7A50-4C25-A442-355110648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A7593C-23D8-4FB8-8728-F85F5FCBC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7CEEEB-D5A3-4DED-BC60-CE821B184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493C05-DB5C-4A8A-96A8-E631BA2B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4F1CB-A2C6-4CB4-ADC6-6E741EB0F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6EE1D0-244D-40E7-8DC7-A2019056C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0A0220-7AF5-4FBA-9D25-5443BCBB2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D2C37E-36E2-4935-A939-5472F7EE2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79BDD3-224A-4EF6-9F2D-84047AA25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968599-547F-4329-94D1-2C3232C07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89960-2935-49F1-9524-C5653A921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E1839-A8B2-4B33-9FBE-10A2F579C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CEFBA-2C2B-4E50-B6AC-07C862FDD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4993B-6AAC-4F1B-8620-BEA4960C0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7173B-CD31-4FFD-87EA-B3844756D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821C-9787-4D85-9449-FA4E97A2C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24F5A-7F7A-455C-9859-0F678E68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95A24-E55D-4B79-8F6D-270A4A1B0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9FE12-97FD-4409-86EA-A74674D22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2EB1B-F4F0-4096-ADA4-4840B1560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ECF71-C63E-4463-8A6D-C4EC83449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59E8E-8A4B-4C56-A323-30241E8FC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7CE77-11D2-468B-9B39-31884C3D0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13626-AF74-463B-9B98-E0265356B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6A3F9-D045-4E7E-A346-821FD79B6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5E57A-EFEC-4EF2-9E11-1CB7182C4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BD26-7EA6-4BF1-BD72-6419879C6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915BB-5906-45F0-BAB4-B71DFB6C8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560F9-A7D3-4F58-818D-D03FB97A1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A51AE-C1BD-471E-AEC8-37C32F0A4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43920-B9A2-4509-8CBB-1038FB9F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A6A6C-C0FB-449E-9594-04A983F39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146FB-1C06-4D37-9C45-4D8147868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E24BF-1618-4C1A-AD1F-49A66FA31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2705A-0813-4721-9C91-06D1326E9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CC7A9-73B4-4FDA-AB63-7AF4518E8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364A6-F942-417D-B190-73A1D1CE0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179F-8558-43BF-AB2F-75779AB83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67074-BFE5-42C1-852A-4B55722DF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3FB56-0345-4243-B09A-314D4B0BB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045A6-B219-44C8-BBD3-06ABD7DA0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6B483-8DDD-4DE1-87A7-7073D81D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C1546-CFBD-418E-AB2E-03C47B05B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FD869-DD77-42EE-A3CB-87C37F0A2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7BE81-82CA-471B-BE8E-C7FEF7A5E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FB03E-8F5B-4CD0-AC8E-D388D5F5C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A2791-FC2C-4380-8677-8D91704DC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8CD242-FF15-4FF0-9406-937194EBA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92DA-E5DB-4384-A11B-51A075B9C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CFC803-C704-4EAC-8BCD-229727893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AC4C79-02E5-4457-9154-0520D2CDF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3BCD64-993C-4F75-9A3A-43D25AEC7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D15C56-F0BC-4930-8D3B-49772CB48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8926D5-54D9-4BDC-9887-3A4713809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1BDD36-C91B-4A24-BCD9-E3B5B5E66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2BDD3B-41DD-426F-8202-0DDC78A7C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087ECD-F589-45F4-B971-02D682D97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35E772-D546-477B-AFFD-3A7840B4A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488A09-19A1-418E-9897-3C4B0B085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9054-19B5-445B-BF5A-F5490DB92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77B8C0-697C-4284-85AA-ED2B4BC58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9D45D0-56D0-4793-A7CE-0AADCA54E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39E634-6FBA-4EFF-9E8C-15149F3F2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E90C42-BD44-48AD-988B-C8C08A96F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3CC033-C63C-4882-B871-A9E2F14EA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443A94-C2EF-4583-9590-5D1A1478F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0BF0F-D370-40C5-8D20-77078D811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778C89-7B16-4B9A-9254-266298372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F0C245-72D7-499B-859A-62B010B0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FB3FA4-32E9-43BB-903D-35F81360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608E-D851-491B-A5EF-48E1CACE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22CFD7-E34E-4AAC-994F-66E7E95D3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6DC970-FDCE-4D36-9FAA-AC373F2E8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952B18-1D58-4B66-BD65-63C2918B2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4A8B84-A69B-460C-A966-BE37D7BE6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2D0FA5-38C6-4204-91E6-BA7A99A67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FD357B-D5F2-40C3-A67F-1317D0F26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156E5B-218E-4088-B1DB-9039C6739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4CC3E2-A820-4569-84F1-2A8A14BD0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A0F636-4FBF-4420-8527-1967513C8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DBA3B2-10BD-4FB1-9E50-9B739DD63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CB6F-17C7-4352-98BC-8EDD7D5D7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329D89-8677-417B-A2FC-339FDB5D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B93CCA-1BD9-4A52-A85D-265191C4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D7F1BA-9EE4-4A07-9B34-4622BCB89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E93325-AC82-43B9-A9F0-F08B6E1A7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0EE546-DED0-4137-879E-8DE9B6C06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781508-05D6-47D0-BBEF-F7B929532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5488E9-8A45-4D32-963B-6C7A1F451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40A47E-7F54-48AB-BD3D-DD6FD8E1E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78D85C-3730-477B-8112-9E7EC1B7C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D98C25-0B26-4CB9-83D1-D0C0B23DF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9696-CE94-41C7-8F59-02B429C5B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BC85F2-EB98-4A2B-8AEB-C92261634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153345-C751-45A6-8AF5-D308ECC50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A55E92-4109-4E10-B256-9A895FBBA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804FB3-2118-4D93-B1C2-E02AFE385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D11B8C-BA9E-4CA7-8EDC-31C957031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673A66-284D-49CE-8CF0-B79C9CB2C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6CC361-467B-47B1-B26E-27C0EF1E3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23ED5A-C6F2-433A-B686-7B52AF0AE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A7E13E-0E98-4067-8AA8-E9002CD6A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8834A4-2724-4AD2-9701-19F744A3F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506A9-B360-4296-9FAF-93978BDD2863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B7BAE-71A5-4F96-8D79-5C0F33EAA60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08CE8-0D3D-40D4-AA59-F417FDD5DEA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48D20-DFC1-4D52-9BEF-9A84F8600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0A094-8700-42F0-BF18-A394F0B1AF21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FBC31-9AB9-402F-BF66-57EB489E3138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A8C64-A318-4422-9232-07C4B9971388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EF17F-0941-4E35-8549-9E80DAAC1249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96770-68B9-4077-948A-220296823117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860E8-ABDD-41D2-902C-F7A6E159B1B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274F1-1B8D-4674-A273-73A808928FC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4E88C-4DAB-4CDA-AB03-505ECB78BD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3B077-F108-4E37-A52B-3F6FA5D5DB9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57A0E-5F58-46D2-8798-D07CE1AC1F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C2AE8-A5E2-4259-B011-1CA375281B9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17769-B1F4-4613-A244-2BF68454402D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1815B-1C83-48D2-BF80-DE178EF8EDC4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33009-1F2C-4BAA-BE7D-B94D0939C09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C96C0-3CB6-406C-AB79-A0B49C2814FD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5B7ED-BA85-43BC-B29B-A4557D3864F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F8779-F9E6-47A4-8EB0-BF7B888D3DB2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650F7-9407-4AFD-9284-16B2F1F84B2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92D17-565E-4436-85D2-2F983426EFF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0ABA8-BFAE-409F-89A8-123B3672F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CD12-0AA3-4D71-8777-BE99B99D484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61BE79-A55D-43E5-9864-70CD6B7903A4}" type="datetime1">
              <a:rPr lang="en-US"/>
              <a:t>07/29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4D89F2-6AD8-4D39-9C15-72AC284EC15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752A37F7-97A3-4D6D-97FF-6E74D41ABE8C}" type="datetime1">
              <a:rPr lang="en-US"/>
              <a:t>07/29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6" dur="1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2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36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6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C81CF-F9E7-4955-8B73-79C4EF49F3A0}" type="slidenum">
              <a:t>3</a:t>
            </a:fld>
          </a:p>
        </p:txBody>
      </p:sp>
    </p:spTree>
  </p:cSld>
  <p:transition>
    <p:comb dir="horz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0"/>
                            </p:stCondLst>
                            <p:childTnLst>
                              <p:par>
                                <p:cTn id="20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79A8DF-EC50-4E25-8A50-B7029109FEA1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B1CFA2CF-FF91-4BB4-B3A8-FD2E737C52D8}" type="datetime1">
              <a:rPr lang="en-US"/>
              <a:t>07/29/26</a:t>
            </a:fld>
          </a:p>
        </p:txBody>
      </p:sp>
    </p:spTree>
  </p:cSld>
  <p:transition>
    <p:wedge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4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8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6000"/>
                            </p:stCondLst>
                            <p:childTnLst>
                              <p:par>
                                <p:cTn id="2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2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8000"/>
                            </p:stCondLst>
                            <p:childTnLst>
                              <p:par>
                                <p:cTn id="23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6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2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4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5000"/>
                            </p:stCondLst>
                            <p:childTnLst>
                              <p:par>
                                <p:cTn id="2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586D32-F00A-4D3F-AC57-0BC4AFF7DAE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792FDB9C-ED9C-4539-A268-A5FF19A1A1B9}" type="datetime1">
              <a:rPr lang="en-US"/>
              <a:t>07/29/26</a:t>
            </a:fld>
          </a:p>
        </p:txBody>
      </p:sp>
    </p:spTree>
  </p:cSld>
  <p:transition>
    <p:wipe dir="d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3000"/>
                            </p:stCondLst>
                            <p:childTnLst>
                              <p:par>
                                <p:cTn id="29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4000"/>
                            </p:stCondLst>
                            <p:childTnLst>
                              <p:par>
                                <p:cTn id="29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0"/>
                            </p:stCondLst>
                            <p:childTnLst>
                              <p:par>
                                <p:cTn id="30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6000"/>
                            </p:stCondLst>
                            <p:childTnLst>
                              <p:par>
                                <p:cTn id="31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7000"/>
                            </p:stCondLst>
                            <p:childTnLst>
                              <p:par>
                                <p:cTn id="3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8000"/>
                            </p:stCondLst>
                            <p:childTnLst>
                              <p:par>
                                <p:cTn id="3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9000"/>
                            </p:stCondLst>
                            <p:childTnLst>
                              <p:par>
                                <p:cTn id="33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1000"/>
                            </p:stCondLst>
                            <p:childTnLst>
                              <p:par>
                                <p:cTn id="3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3000"/>
                            </p:stCondLst>
                            <p:childTnLst>
                              <p:par>
                                <p:cTn id="3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1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6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1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6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9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1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4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6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9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1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B889D4-B61F-4EF7-BD96-9C38EC768AB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A5A43DCB-5861-43AE-87EE-790AA26EB3F3}" type="datetime1">
              <a:rPr lang="en-US"/>
              <a:t>07/29/26</a:t>
            </a:fld>
          </a:p>
        </p:txBody>
      </p:sp>
    </p:spTree>
  </p:cSld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1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6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7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0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7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75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76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