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80A1-1379-4646-9C1B-B96F5132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089A-27D5-460B-91CB-2EB4DEAFD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133EE-9BB4-4ECA-B619-1A643DB6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DE140-EAE2-44E3-8DEB-F7CC639E5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665E33-6D27-4766-96C2-EC59683F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2D6454-F16C-4007-89A4-B3C824D9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44FF6B-947C-44AC-98AE-90B4F1A4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DE961-B4FE-4ADB-96F7-FEC1A838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79D11E-D9D4-4973-9865-CE1F1B068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4DA92-AE3E-4051-B666-B3D99B40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E8D276-BA38-4CF1-861F-EAD98F9D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3D2348C-87C6-4DB6-9A20-B9C66E0E4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4BA-8397-437B-850B-DAC80724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B7DD2D3-04FA-4145-ABAD-8866923D7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0F81AD7-1F11-4FFD-8D78-653C8678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027175F-CBC2-468D-9794-3AE68543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5746A9-276F-41C5-9D13-667C7AB2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AFFF21-76DA-4D8D-896A-CE8B3C283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EF9CCCB-D60E-4DE9-8109-D27B59160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DC9200-1662-47D1-8256-09197DBFF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409AD9-35A4-45B9-BE10-1F26FCBD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E105E0E-6EC8-46D7-8C11-EF60E741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92E97F-85C3-455F-9E7E-8EF518C6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2A1F-5625-4C9C-809A-3DFF6F45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0A188CA-DB82-4BC3-A00C-3212F633C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AAC1F1-06DE-469C-9DC3-10E6C5F9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7EB2B-0F85-40B2-BF8B-0788C042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2E71E-EDFF-4C2B-8B52-E5979025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3A2A4B-E4B4-4BB5-B52D-46911280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649064-6DEC-48C9-9E58-8373D20E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FFB117-2496-4E00-80D5-ECF9FE33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5BE63-AD10-46AB-9E6A-9FE41BFB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B3CEF-569B-4C13-B463-FA66279E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24B46B-0DBC-4515-89FC-89A36C87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8CF8-9682-4C12-9BED-D9FCE762D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22630-2DBA-4683-8E6F-22978293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07A1B6-5C74-4DB7-87D1-5DE946ED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A95909-DF59-40C7-9A81-90E282FE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9E70C-99F0-4139-924E-049088CF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C26775-992F-49FA-A06D-ACC5AFB4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F85761-8C9B-4C7D-A593-DB0ED951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0DA2A-74D2-442C-92B7-953FFFA6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10E761-C083-4315-928D-63D4769BC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A569E7-71E6-47CB-822A-5829F83B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A4B8D-5629-4BA0-9EFB-D97D449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A399-D1D9-45B7-870D-430F0B273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3D6AD-E363-45A7-9691-EE122FD6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69919A-F30A-4E4E-BBF9-360862A7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ABB59-58E0-4164-A52A-4E0ABB9F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1BCFD-DA2A-4F82-B9E2-C12975FF3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AF405-414E-4966-ADD2-9244EF495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D5F93-337E-4A5B-8D08-6736815D5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9836-7E68-4DDF-9A21-FAC69854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DA9-EE70-4D8E-B4BD-FCB0DD5C3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D0320-7BE5-4FF9-9FFF-B85B6F22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FBC9-5CE8-4AEF-B212-D5BA677D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1A80-D966-4851-AB33-67B794E0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3E5C7-7B21-46E0-9872-0FDECB59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0B81-9107-4B07-919F-C661D9172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08223-80B1-4C38-B4D7-6E8D541F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B7B88-2411-4C80-88F1-6B2C220E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40663-FC53-4B44-8A3C-5703420AE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FECB1-9E9A-4227-B19C-C763CED8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AB93A-6E88-4D4A-84AC-503351DF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F9F1A-62F4-49A8-95ED-D3C361E9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3F9F6-E105-4F2E-8AE0-E53BFE25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661A5-01B8-41C7-A0A8-C1FBD7027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B56-712A-45B2-B01F-510A4742D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2D53B-3362-4EB7-B0EA-18DC2FA1B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27CD4-6B3D-4778-BE3A-7CD52229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FBCB0-8E24-4F28-81FF-30E7BE91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7B4FC-F54C-4749-9ECC-E478B43E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5AD9A-804A-40F6-9996-0E47A800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948A0F-FC15-4D77-9A0E-208B322F2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88648-64DE-4691-8680-C9E88E67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D7032-FD4E-4F99-ABD0-77FF1340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193B65-E431-4B1A-8B8B-714DC8FCE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569ED-19B5-4318-A278-0BA70856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84BC-933E-4006-BCA0-DC6BAEE66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B21F-85F7-4405-9F1F-3BC8DA94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ED08CB-69AC-46B9-B943-2037AF172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792F1-270D-4069-AE0F-F321ED7B4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13659-C1DD-42F4-B530-044D95B3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BB5E-1B3B-48F4-B3A7-92F46CBA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1EC32-65E3-4712-9F9B-4E164CF6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889E4-097A-4F7E-A5EF-8C0090F2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A54F2-59B1-460F-9BAF-CE7615E6A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87E70-54BE-4E26-AC5A-4E4E1F67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1CE359-8DC3-4E99-A469-293F7708E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29A-BF24-47AA-B361-BB066C1C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A974D5-CB1B-49C2-BC0A-14D88D76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7FA477-CF65-4627-BFD4-6FE30C83E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E2503-019A-4EDE-9A9C-81E1E0B6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D3E22C-79B7-4D0F-B6D4-A5034A9E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37EED2-2A0A-4FFA-9FAE-932913A7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2C61EB-B15A-4C1A-83CF-3EBCB9C5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BC86C4-7B4A-4DDB-9864-4D312A66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96962-A6C8-4A99-88D4-AB73AEB1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2BFC2A-45A9-42CD-B090-B95C79DFE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BA7A74-EB76-4FEA-A827-87E854FDA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04B-35BB-4877-8006-B2A63129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84823B-F66C-42D2-8AEE-EEC71F81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35308-4FB1-40A4-9BAA-B3C7897CA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199743-1BD0-4D01-8BC6-C50385756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00916-4F0B-46E5-B988-8C38ADAE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C3CBE-F30E-489B-9D4B-2DB4EC39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A53D1-885B-4C75-975C-6C68211D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2DD11-3369-4870-BBB5-A964FF45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B725D2-1AEA-424C-B304-9E4962B51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38128-CA03-4943-999A-844BD4D2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6322D-6E69-46F2-81FE-514BC7F0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C37-1472-4F87-8E89-AB4FB797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619F2-90C1-44BD-9D97-FDE3518A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33069-64A8-4F09-9F0C-8D964CA66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AB56F-15DF-4D22-9802-784E3B8A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D5E086-7B86-4CD1-B749-F4C28ED05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04E4CF-9787-46C0-89CF-E150B3F73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01754-9DFD-4C59-9D81-12C42933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16769-60C5-4EA4-9740-6F7FC9C4B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015213-EA7E-45BA-A23A-39B82491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BB6D4-5745-4FEF-9970-80514BD2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4E127-EA6D-4386-9A4E-0516E5FB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8DD9-EEE7-45DF-9ACF-D855F71A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77666-6AB1-4A15-9926-3B7995C3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02B9E-68D8-49AB-AB5C-7BF978B7A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70C5-F816-4E05-B29F-7AC2F44C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869E0-4BC5-447A-B0E5-4A285EBA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C15D3-EC23-47D3-AFA4-6BFD43E17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7E670-6F67-4F42-8701-C1BC72225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D8338-4C02-48CA-9D9E-77CE35E61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56F7FF-7FB5-4D90-B6D5-5DBAE32E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EB41A0-35F4-4DB7-A593-4BD00A4A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54CEC1-B5D5-486B-8D2B-7DA7EBAB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1AC5-6FF7-4DCD-812B-3F7B1BE14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F4495-3C57-474C-8D84-31733D6BD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B04345-A758-4061-A9FE-566ECFEB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17D4B-BDAC-4586-A7BB-C641EDDB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92EF81-4327-457D-88B6-FEF85E0C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45414-F94A-4788-A5C4-5CC753F2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E3880A-BD7E-49C2-A280-7FB8C387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122C3-1F98-4E3D-858A-03CC0517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FC94E7-697A-4892-BF99-943CEA83C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A0972-35B8-45EF-9A2A-945DA9F4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E955C3-DABB-40E4-B95E-73DED351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DE758-12CE-4B90-8A89-E1E7D8761EE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83B1A-159B-43D5-9792-713B4BA2128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D679-1757-4B81-AFD0-4593A2515E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E0540-AD62-48FD-88B2-F98915202A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B1D8A-49C3-4C42-B111-239BC09C126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E5148-33FF-4CBD-92DB-E542EFF6FF2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682CE-565F-425D-AAA8-C1B38869077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428F-5F46-46D4-9E9B-9C499B1477E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696DE-2966-49F0-B4A2-593098099E53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BC2B-DA5A-49CE-BBED-DED244D315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19A74-F003-4E0B-98EB-8E92A3F5EE8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80A1-9839-4F63-B4B1-ACEB6D95E3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E947A-7822-4D7B-8453-F40C5304822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7D9C-E545-4F3B-A69D-6B4815CF6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9805-C014-436D-8744-978BFA547D4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94CD-ADC9-4AF3-A4B6-9926DF38CD2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608E-5DE6-46BE-A0B6-34F76EA3819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9F726-6A68-4B72-AC29-0724111D6FA5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5CB2F-C469-4DC8-8D83-A2422E8F3FA5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FB04-2062-4D1C-B938-8F84D737D8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1A02-F721-44E0-833B-DD9D2D4E5B52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8A66-C4D8-40E0-BCBB-5CE6C046458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6901-0246-4819-BB54-92EC32B2624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A138-94A3-4142-B508-FADC0397E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C3E5-7177-4216-8592-770B9E0FFFF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F4780-2DDE-41E9-B132-D1459AB49C6E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3F419-1088-4BAF-89E9-35B888BDAF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4C124395-61CE-4FA5-8E22-A7E0472324D4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str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str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319B8-FBDC-4314-B5F9-A3E8C1C888BE}" type="slidenum">
              <a:t>3</a:t>
            </a:fld>
          </a:p>
        </p:txBody>
      </p:sp>
    </p:spTree>
  </p:cSld>
  <p:transition>
    <p:comb dir="horz"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000"/>
                            </p:stCondLst>
                            <p:childTnLst>
                              <p:par>
                                <p:cTn id="1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000"/>
                            </p:stCondLst>
                            <p:childTnLst>
                              <p:par>
                                <p:cTn id="1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0"/>
                            </p:stCondLst>
                            <p:childTnLst>
                              <p:par>
                                <p:cTn id="1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49FCB6-13E6-4361-A898-682A923F73C2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4187AC3D-C45D-443D-8EFB-7DDF39CFD539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6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1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37A05-0DFB-4456-A180-3413BD67E2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425A42B9-56D0-4B21-994E-173F87E8C529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0"/>
                            </p:stCondLst>
                            <p:childTnLst>
                              <p:par>
                                <p:cTn id="29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6000"/>
                            </p:stCondLst>
                            <p:childTnLst>
                              <p:par>
                                <p:cTn id="29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7000"/>
                            </p:stCondLst>
                            <p:childTnLst>
                              <p:par>
                                <p:cTn id="30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6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8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B2700-F7AA-4982-A6D2-0AB3624DD11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670D1E74-A335-46B0-A375-B64ACCC80F6C}" type="datetime1">
              <a:rPr lang="en-US"/>
              <a:t>07/28/26</a:t>
            </a:fld>
          </a:p>
        </p:txBody>
      </p:sp>
    </p:spTree>
  </p:cSld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5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3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2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