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9B82D-8C7B-4B4B-A437-96611D150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23011-C16C-416E-A1DD-907BE5419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AC2CC-E626-4579-BC00-8F0002281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E08E3-DB89-4540-A253-F7F7101E8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2FFF9-5530-4FE6-9540-38F941B52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2F891-FBF4-4417-A2B0-D74E65602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A1283-32A0-497D-A163-EDE6B68D5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5A3EB-5B06-4072-AC02-5832AF70D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1B7CF-6330-4487-938C-140658410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03A28-460C-4C82-B903-7CF89EF37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C5077-5011-467F-B9F6-A13F2528E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68345-B0E9-4CB8-91A9-D68C43CCD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AEAFD-0199-4EEE-9862-3786E6BCA505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3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5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7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9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1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3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9"/>
              <a:gd name="adj2" fmla="val 49994"/>
              <a:gd name="adj3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5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4"/>
              <a:gd name="adj2" fmla="val 49994"/>
              <a:gd name="adj3" fmla="val 499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7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50000"/>
              <a:gd name="adj2" fmla="val 49994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00:13Z</dcterms:created>
  <dc:creator>tb121644</dc:creator>
  <dc:description/>
  <dc:language>en-US</dc:language>
  <cp:lastModifiedBy>tb121644</cp:lastModifiedBy>
  <dcterms:modified xsi:type="dcterms:W3CDTF">2005-05-25T09:04:25Z</dcterms:modified>
  <cp:revision>2</cp:revision>
  <dc:subject/>
  <dc:title>Slide 1</dc:title>
</cp:coreProperties>
</file>