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E1A5-DA9F-4A72-A938-66449C90C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A9F5-DAF8-4328-88F1-F7E824AB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3BAF7-2F93-47A2-92FA-CC7C5F02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FAE8B-8685-47D5-8CA4-E4D22E3A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057C3-1A8C-40F9-BB7F-5A2C593D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8C57A-15E4-4FBE-933F-E06733D4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BFA9B-63AF-4AAF-80E1-0F982276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929EE-21D8-4B61-82DB-35455836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5B17C-6EAD-4AA6-9B64-DB079C20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6ECD2-297C-4EF3-AE83-37384028E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C6A6E-506F-4A76-94D1-4EA6D870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AD5C30-D77A-4480-947E-9A6E479E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2747-D5A5-43E1-ADDD-53E979897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E4DFA4-1B04-42A5-952F-F97F9C7F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5BBB82-9B2E-467A-B404-82641B2F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6F5AEC-D24A-446B-BD99-BE762035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9DD367-FEC2-422D-B4FA-20678EC8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732F7E-A805-43CC-8A0D-E9EA8CB0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7B2450-2F39-4D76-B02C-229DBC48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38C2D8-62CB-434C-812F-7CA2269E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F230F2-561A-4C1D-A8DF-06504862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508C3A-7B28-4B60-9873-2A95CC06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0D7D3E-E38E-43A9-95E9-60F6A04BE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7E92-A63B-4D72-AE38-75D78D8EA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F01BDE-F975-4E9A-87BC-E7E8B5311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B1D60-2FAF-4A64-B6C0-D99669AB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A77C3-35F2-491E-8F6D-26B2B56C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53F10-5D83-4250-B782-D85715BE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9B782-2EBC-43A2-941E-E38F0F2E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96B1B-5158-4340-9692-AE133919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1CAE9-A33E-483C-B077-18ED5DA7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D9561-09A0-4FE5-B782-BACF6B3B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0559D-F4CC-43A2-8215-18DFCA33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70C07-A1BD-4779-9F60-96F6B11B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FB65-707D-4E52-A156-0FFE2D63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D4959-E82E-4A90-9D3E-86910B22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65357-0883-4B2A-B571-0F78CCAC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EBED7-594F-44F6-8120-8CC61AE6E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A2F821-2B93-47AD-A289-513C4A0F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1AD547-3CD0-4803-9B2D-8D729BD2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A83CD-FC0E-43D0-BFF5-56E35093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35F8F-0B7D-4A7C-9724-8EBE722C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87254-E81C-452B-AD22-969B0ACE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11C0C-42A1-4796-9250-61D4AD4E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7A5DD-CE3E-48B1-8280-DD8EC0DB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7832-E286-41D5-BAA0-E04916D1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A36D0-8971-4B94-92E9-DAF33820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385B5E-B36A-4518-B157-34371B98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8D09A7-D917-46CB-87E9-46EB0F23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499F2C-F3E3-4BD8-BDB1-EF61D65E7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9F67D0-B0FE-4C78-8B6E-94689187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46CE-D016-462D-BDFB-E091B432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E220-28FC-4A05-B892-120E4551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B5A6-D54B-4DA1-B38D-3EBFED93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0323-001F-4FD2-A3A1-BE12D3B5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03F0-6EFD-419A-955B-032F3F31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D40C-7098-4F84-8331-B6C4CE95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55D2-2B3E-4AB9-9139-07966BD3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4E3B-1CB1-4EEC-A700-0AE62A8F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DCD0-EE26-435D-826F-DDE1BA0A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6520-2BB4-4F12-98E6-26BC4E5FB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CFA8-DD7F-4883-8D08-A93199687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05867-EB42-4A14-9DCB-6E97CE08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5F94C-4A9E-4F77-860F-E985445B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F3FCD-35F6-4D80-929D-93D40797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CE864-BC50-4BD0-BBEF-A37921EA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A2CD2-0ECD-47F7-BB0F-2DBED31A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C02B-8B8E-41D1-873F-87C3D0B7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E601D-4B75-4098-99AE-93A9A3A7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F93EA-9574-40EF-9D2B-410115A3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935CD-66BF-4364-92ED-A6C664AE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4F458-BB7C-406C-9642-6D848879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3AD1F-A7D6-4112-A02C-FD28CB0E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3C0B2-DA13-4552-B7D5-7A12ECBE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B4920-48D0-489D-B650-A8E1FCE51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0D74C-93C2-498B-BFA8-5710E685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C1E82-5990-4060-B8A9-180D69C5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1DA11-77BA-4FFF-A10B-5392836E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EA0F-6205-4B07-B75C-2A8F4960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0A89F-D19E-4B40-981C-0598129D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0AB87-9628-4D5E-98E4-B07D6FCD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6BB1E-0717-40B3-8B71-84B9812B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FF11F-E3C9-4E96-95EC-226884F4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C13F8-6696-4F44-8D66-852CCE82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EA489-8C4A-4294-8BB8-310898A9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EEA7E-7F26-4E32-B638-78569201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49F3C-C725-46BA-A066-3F779903E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9FF84-6940-48CC-8929-95A6433CF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9F79F2-D6C7-4405-908E-C6D4FEBF2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5571-49C8-493B-A75C-5188EAF1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BDC468-4464-4156-8400-5B7690B2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FDBDA7-FD89-4AA6-AFD4-15825A4F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EDB8C1-15D3-4EFB-931F-331DD0B2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1E5E52-DF30-432B-AF31-3AD58A83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FD0510-A78E-4E43-A496-13A6CCB2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F69218-659B-40D6-8C61-376E6F3E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8198E5-FEFA-4AC5-A368-878012F7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DBD594-E055-4039-B8FB-A10E63F6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CDD20B-DE75-4957-92D0-39CCBD85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5938A9-3701-4351-9E45-CBF0C02F4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D493-9CD2-42E6-A37F-1C44D99B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4CA811-6EB8-497A-8A99-8AB7B1C0E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BB726-EABB-4AEF-896E-DFDD75FE2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C0D9E-D652-44E4-B6C9-1FFF0673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AC36B-BDF3-4BC1-8A65-68385CC3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BE028-CF52-4C24-8254-D7138B22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F7FCA-5768-47B7-AB52-1FC9393C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816E6-825C-4EBE-8B74-B5D1FE81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4B782-26DB-4EFD-8CCD-1EBA274F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124A5-03B1-43E3-9843-B13297F1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E50DB-1C0F-4B85-BDE8-764C5565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2D59-E901-41C7-AED6-DC2D5703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CCBCD-83CB-4A2D-8B61-E9452C34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EB473-1FE9-4C9E-B6CC-8555A7645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38FFE-C357-4F91-8AEF-AE9E14F89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84A50-1E84-4A3C-9F5C-C214E9019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FE842-4DF3-4676-B853-932ECE8A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C3323-8D3B-45AE-94AC-BAB68B17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7A340-00F8-452D-8E05-2134D4DA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9FEF6-BC1C-4D8F-917F-CF497DA4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F000F-62A8-4193-9B50-6902F403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369F8-15CA-403F-9D42-CF1CA746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A337-DF73-4F21-9F55-8DB061FC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25A83-C89B-4780-8844-60FC20A6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301B0-DA5E-40F9-9457-2CA08016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EF503-100E-4949-8B85-EE9A40A3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4F701-46E7-436E-9EE1-A2C00249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5EF84-0F11-4CBF-8471-7CF0FF1A4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3D060-4F58-444E-B012-C6CF8880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5F49D-965C-4397-AF78-8208AC55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D8DBC-D7E0-431F-B5A6-F6153C65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423B9-3946-41C4-8D76-7B29CD37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00EB2-0075-418B-86E7-24C90214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EACE-A318-41E1-A22E-E2F4F3FC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2D315-4D26-4EE9-911D-AB92067A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DD0C7-A05C-4A93-B4F8-FB761F17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76B40-C863-4FAC-BB1B-04E1EDAE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922AA-6221-495C-94ED-76859B90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0F60E-9735-4950-99E0-24FD33A4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EEB07-BF69-4E7E-B3F9-983BFA651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1274B-023C-480E-90F7-B9F92528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76639-78F8-4D31-9FF0-606E4E0E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93DA7-8AFD-40D9-8EAA-0E797DD0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B49FC-874B-4940-8591-D4350E3E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D1B0-7C49-428A-B559-50D999A161D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D3E2-B198-4E31-A1F4-AF46C70073B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7C26-32E4-42D4-B608-B2BD73C72A0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0070-CA7F-4538-A7D9-EDB53A192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D31B-A07D-404D-9C9B-FE6A04D1BDDF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011F-A8A6-49CA-9EED-04F7A9C1B3F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B4AE-31F5-4F1C-8456-B2BB52FB833F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0A97-08CD-4144-A173-3ADD0D9E4B1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10C4-6E32-4A61-9539-29B54DFC0AC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3C32-17A9-4432-B5EC-16B1060420F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203D-8783-4F1F-A853-0220E881875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9618-D632-448E-94AC-55AA203AA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1FBA-D1B3-4317-8BC4-EE6C46F3A7B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31AE-52EC-4A6B-A751-62C2E6427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4329-C6D6-434E-B505-8063EDCB37C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B35A-156B-44FF-8E1C-F8B1804E336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EA6B-8EAD-4436-9A4A-BBA38D4F928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0E3E-3C81-4787-BDFC-5954FEE22E6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4248-E4A5-4628-9A4D-52329C6DED35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5900-6799-4671-B52B-A284F46E3A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E402-0A92-44E0-9473-E3DB92D1BE8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2602-5DAC-4152-93AF-343386F1F64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B6EE-F124-4678-95A0-AD4F51B8856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1794-E82C-4967-8234-BAC79A478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8892-FBCF-4287-B146-84901D584B2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66479B-A6A6-45B2-B8D1-DD678B7B8A95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8E028-DA1E-4DD7-A39D-E6AE094CE7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BD91D298-7860-4A26-900D-EA74A21B3FAC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8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0FEED-8F2E-40DC-B766-7EB34282E684}" type="slidenum">
              <a:t>3</a:t>
            </a:fld>
          </a:p>
        </p:txBody>
      </p:sp>
    </p:spTree>
  </p:cSld>
  <p:transition>
    <p:comb dir="horz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7F808F-64CB-49B4-809E-8FE286DF4CE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7C70AAA5-B853-4296-A785-7CF7DB7552C3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8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87FDA-A5AB-4AAE-B08A-DC10E4D45C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A3574066-9416-43E4-B084-5A05F47CEE59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6000"/>
                            </p:stCondLst>
                            <p:childTnLst>
                              <p:par>
                                <p:cTn id="2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700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000"/>
                            </p:stCondLst>
                            <p:childTnLst>
                              <p:par>
                                <p:cTn id="3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9000"/>
                            </p:stCondLst>
                            <p:childTnLst>
                              <p:par>
                                <p:cTn id="3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56AED-FE53-405E-B358-270457CC514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FDC18949-2663-4E60-ACF3-EB85832D0466}" type="datetime1">
              <a:rPr lang="en-US"/>
              <a:t>07/31/26</a:t>
            </a:fld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