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09608"/>
        <c:axId val="67875678"/>
      </c:barChart>
      <c:catAx>
        <c:axId val="47609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5678"/>
        <c:crosses val="autoZero"/>
        <c:auto val="1"/>
        <c:lblAlgn val="ctr"/>
        <c:lblOffset val="100"/>
        <c:noMultiLvlLbl val="0"/>
      </c:catAx>
      <c:valAx>
        <c:axId val="6787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9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02C-948C-4C95-8CFE-DADA17BD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0C8-0615-4B80-BD74-4B2418C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3FC-C774-4E3A-86F1-4EF373CE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D79-C1F7-4345-8C2F-73538931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F42-2D86-43E4-BCB6-DE0D1FE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190-66B5-42BE-A674-EF741E4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297-0A94-47B0-9B79-99D80D4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35C-5964-4BE2-B033-D73647EB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AAC-C20C-42B3-BABF-6F80346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214-F87D-433E-AF8C-2646D04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CD8-674E-4DBD-B898-FB91D4E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35D-98AC-4528-BD2C-9651B02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63AEA-4166-4515-8882-DF59545FF7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