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97815"/>
        <c:axId val="15918152"/>
      </c:barChart>
      <c:catAx>
        <c:axId val="52097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18152"/>
        <c:crosses val="autoZero"/>
        <c:auto val="1"/>
        <c:lblAlgn val="ctr"/>
        <c:lblOffset val="100"/>
        <c:noMultiLvlLbl val="0"/>
      </c:catAx>
      <c:valAx>
        <c:axId val="15918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97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4EE-1C70-440A-9EF3-9ED68E83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DA9-0F4F-4ED4-A4ED-40F1F55C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4B5-3FE7-4540-B59E-1B02116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C1E-5E43-4C6D-9B29-3BDE7227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CB4-3DFC-4951-9311-687F0F2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8AC-BD2D-4BE5-8897-5C94BE0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4D4-7F9D-4BED-AE5C-5F3C296F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BCB-B12C-4465-8028-92A8EC6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D27-A56D-4212-8B39-226D0C0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1B9-E1E2-4622-93FF-4720489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485-D936-4EF0-A1F5-250E56C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183-D376-4F99-A638-E594D34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F1D3-66F7-40EC-A23E-2A3A7D4EB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