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C837-43AD-47EA-B901-96F510772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28F2-628A-47BB-9D8B-2DA8CB89C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B1D9-0C72-436A-A3D2-24C80D08D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AC43-391C-4A7A-8568-19081B097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21D0-7B8C-454E-BF74-FF468381E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65F4-0DD3-45AE-84E9-7C790BD29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6638-FE41-44A7-865C-C0609E752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1BCB-0950-478D-9133-8015E15E9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6F76-010B-448C-86B6-50B073FB3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4EDD-3443-4F3A-BB59-BCAB3C7A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5231-2BE1-4EEB-A825-4F166ECD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4722-EE0A-4ED7-B0E3-41476A6C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F71F7-E255-4D25-B210-6CAB0B1E1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773360"/>
            <a:ext cx="7632720" cy="41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249228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328464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4005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4653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5229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8472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1341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69120" y="725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うそうそ帳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53720" y="28116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/12/2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作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88120" y="62420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うまく出来るかしら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1:29:08Z</dcterms:created>
  <dc:creator>株式会社ＮＴＴデータビジネスブレインズ</dc:creator>
  <dc:description/>
  <dc:language>en-US</dc:language>
  <cp:lastModifiedBy>株式会社ＮＴＴデータビジネスブレインズ</cp:lastModifiedBy>
  <dcterms:modified xsi:type="dcterms:W3CDTF">2009-12-22T11:30:08Z</dcterms:modified>
  <cp:revision>2</cp:revision>
  <dc:subject/>
  <dc:title>スライド 1</dc:title>
</cp:coreProperties>
</file>