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10080625" cy="7559675"/>
  <p:notesSz cx="7559675" cy="10691813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96C8A3B-B73B-4C8D-B1D6-DE7E5ABA046D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B2DED4C-8D71-4BB0-9F19-2DBF0CDB35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2FFFDC1-6C1C-4D71-BBEB-895FE90B0376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56940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35520" y="17683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5029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56940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35520" y="4057920"/>
            <a:ext cx="291996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C71999F-3526-46D9-A4C5-C7D08B52F12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3F629F-C367-4560-88C4-F7F67E2935A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5196F0B-D35B-4339-BE30-5C91A971A61C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C72C0E9-9B3E-4415-8D4E-6A25288D5FE5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07BC227-00BD-4162-8D0A-EAD7D38674EC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502920" y="301320"/>
            <a:ext cx="9069480" cy="58435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marL="343080" indent="-34308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420DF23-E880-48F0-B9E0-ABDB11CBECD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FBC07DE-E692-4353-A1E4-907D3A5252E6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50520" y="40579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77CBDC3-B52A-4983-BFE1-052128CAB77C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5029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50520" y="1768320"/>
            <a:ext cx="442584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502920" y="4057920"/>
            <a:ext cx="9069480" cy="209052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D8EF6D5-88A1-40A1-A2E3-236B7069DD6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502920" y="301320"/>
            <a:ext cx="9069480" cy="1260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502920" y="1768320"/>
            <a:ext cx="9069480" cy="4383360"/>
          </a:xfrm>
          <a:prstGeom prst="rect">
            <a:avLst/>
          </a:prstGeom>
          <a:noFill/>
          <a:ln w="0">
            <a:noFill/>
          </a:ln>
        </p:spPr>
        <p:txBody>
          <a:bodyPr lIns="0" rIns="0" tIns="28440" bIns="0" anchor="t">
            <a:normAutofit/>
          </a:bodyPr>
          <a:p>
            <a:pPr marL="343080" indent="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•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–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343080" indent="-343080">
              <a:lnSpc>
                <a:spcPct val="93000"/>
              </a:lnSpc>
              <a:spcBef>
                <a:spcPts val="11"/>
              </a:spcBef>
              <a:spcAft>
                <a:spcPts val="1426"/>
              </a:spcAft>
              <a:buClr>
                <a:srgbClr val="000000"/>
              </a:buClr>
              <a:buFont typeface="Times New Roman"/>
              <a:buChar char="»"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502920" y="6886440"/>
            <a:ext cx="23461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48080" y="6886440"/>
            <a:ext cx="319392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27720" y="6886440"/>
            <a:ext cx="2346480" cy="519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lstStyle>
            <a:lvl1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  <a:defRPr b="0" lang="zxx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buNone/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fld id="{8DF83D0D-92C0-4DB0-BED3-354D6321D6B1}" type="slidenum">
              <a:rPr b="0" lang="zxx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1440000" y="1619280"/>
            <a:ext cx="4500360" cy="1979640"/>
          </a:xfrm>
          <a:prstGeom prst="roundRect">
            <a:avLst>
              <a:gd name="adj" fmla="val 79"/>
            </a:avLst>
          </a:prstGeom>
          <a:solidFill>
            <a:srgbClr val="99cc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60840" bIns="45000" anchor="ctr" anchorCtr="1">
            <a:noAutofit/>
          </a:bodyPr>
          <a:p>
            <a:pPr algn="ctr">
              <a:lnSpc>
                <a:spcPct val="93000"/>
              </a:lnSpc>
              <a:spcBef>
                <a:spcPts val="11"/>
              </a:spcBef>
              <a:spcAft>
                <a:spcPts val="11"/>
              </a:spcAft>
              <a:tabLst>
                <a:tab algn="l" pos="0"/>
                <a:tab algn="l" pos="449280"/>
                <a:tab algn="l" pos="898560"/>
                <a:tab algn="l" pos="1347840"/>
                <a:tab algn="l" pos="1797120"/>
                <a:tab algn="l" pos="2246400"/>
                <a:tab algn="l" pos="2695680"/>
                <a:tab algn="l" pos="3144960"/>
                <a:tab algn="l" pos="3594240"/>
                <a:tab algn="l" pos="4043520"/>
                <a:tab algn="l" pos="4492800"/>
                <a:tab algn="l" pos="4941720"/>
                <a:tab algn="l" pos="5391000"/>
                <a:tab algn="l" pos="5840280"/>
                <a:tab algn="l" pos="6289560"/>
                <a:tab algn="l" pos="6738840"/>
                <a:tab algn="l" pos="7188120"/>
                <a:tab algn="l" pos="7637400"/>
                <a:tab algn="l" pos="8086680"/>
                <a:tab algn="l" pos="8535960"/>
                <a:tab algn="l" pos="8985240"/>
                <a:tab algn="l" pos="9434520"/>
                <a:tab algn="l" pos="9883800"/>
                <a:tab algn="l" pos="10333080"/>
                <a:tab algn="l" pos="10782360"/>
              </a:tabLst>
            </a:pPr>
            <a:r>
              <a:rPr b="0" lang="de-DE" sz="1800" spc="-1" strike="noStrike">
                <a:solidFill>
                  <a:srgbClr val="000000"/>
                </a:solidFill>
                <a:latin typeface="Arial"/>
              </a:rPr>
              <a:t>Impress</a:t>
            </a:r>
            <a:r>
              <a:rPr b="0" lang="ja-JP" sz="18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5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4-16T02:32:32Z</dcterms:created>
  <dc:creator/>
  <dc:description/>
  <dc:language>en-US</dc:language>
  <cp:lastModifiedBy/>
  <dcterms:modified xsi:type="dcterms:W3CDTF">2010-05-07T05:15:31Z</dcterms:modified>
  <cp:revision>3</cp:revision>
  <dc:subject/>
  <dc:title/>
</cp:coreProperties>
</file>