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docProps/custom.xml" ContentType="application/vnd.openxmlformats-officedocument.custom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_rels/slide1.xml.rels" ContentType="application/vnd.openxmlformats-package.relationships+xml"/>
  <Override PartName="/ppt/slides/slide1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custom-properties" Target="docProps/custom.xml"/><Relationship Id="rId4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31FB973-041B-4B5E-AA36-0E0388DDC8EE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22E98E7-4C70-4ECB-922D-622054C3BB3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3D20C5-3EDB-45F6-A47E-877E65A76003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73511FA-8E4E-45D6-BCAE-1A5BF2C177D0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641F2B5-5757-41D3-92DD-B55F8CD657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98D30FA-3F63-466B-A2B2-83B298C8296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5B8A106-E0BF-41E1-A3DF-E9F1636B59D1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A438261-E5A3-40EA-A06B-C6A449DAEDD3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17E466C-75D1-4202-9872-9F7899D7D1D5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B6A5B2-F65E-4F7A-BFF5-3B63FC4BA01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7ABFF93-AE06-4A47-8F2C-263B71A8EFC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D0013E8-1B03-4EC7-B8E4-E3BA7E5D7704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Arial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Arial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4920"/>
            <a:ext cx="289584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244920"/>
            <a:ext cx="2133720" cy="476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4C14DC-4B06-4C29-9545-DA7E2B0A6C4A}" type="slidenum">
              <a:rPr b="0" lang="en-US" sz="1400" spc="-1" strike="noStrike">
                <a:solidFill>
                  <a:srgbClr val="000000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685800" y="213012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PowerPoint</a:t>
            </a:r>
            <a:r>
              <a:rPr b="0" lang="ja-JP" sz="4400" spc="-1" strike="noStrike">
                <a:solidFill>
                  <a:srgbClr val="000000"/>
                </a:solidFill>
                <a:latin typeface="Arial"/>
              </a:rPr>
              <a:t>テスト</a:t>
            </a:r>
            <a:endParaRPr b="0" lang="en-US" sz="4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371600" y="388620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0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:creator/>
  <dc:description/>
  <dc:language>en-US</dc:language>
  <cp:lastModifiedBy>C21044</cp:lastModifiedBy>
  <dcterms:modified xsi:type="dcterms:W3CDTF">2010-05-07T05:16:22Z</dcterms:modified>
  <cp:revision>1</cp:revision>
  <dc:subject/>
  <dc:title>PowerPoint Presentation</dc:title>
</cp:coreProperties>
</file>

<file path=docProps/custom.xml><?xml version="1.0" encoding="utf-8"?>
<Properties xmlns="http://schemas.openxmlformats.org/officeDocument/2006/custom-properties" xmlns:vt="http://schemas.openxmlformats.org/officeDocument/2006/docPropsVTypes">
  <property fmtid="{D5CDD505-2E9C-101B-9397-08002B2CF9AE}" pid="2" name="Version">
    <vt:r8>1</vt:r8>
  </property>
</Properties>
</file>