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C01A-CC5F-4D08-A95C-9CF80B64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A9C-5E50-4377-AA80-97CCBD78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996-F45C-4679-B0D8-91C261A2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A47-5607-4183-9B1B-36A820AB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1E1E-8D1F-41BE-B1CD-B2A6CDE8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2F93-6E10-49FC-866C-00A100B4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315-1CCC-4D93-AEA1-FBB98FA4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91E-B411-4F21-AFCB-70F16523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C8B0-8816-485A-B77B-9275AF08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93B-205F-4873-BEA2-DDE4C8AA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503-66C0-4E6D-8D5B-AB19ECEF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A96-3E57-4228-9DCB-7AB8321A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8EBC-D177-454B-B176-20340DCD7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58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26760" y="4888800"/>
            <a:ext cx="1579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99920" y="5639400"/>
            <a:ext cx="17323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62000" y="2743920"/>
            <a:ext cx="12078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71280" y="4050360"/>
            <a:ext cx="209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360" y="6260400"/>
            <a:ext cx="2911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EmbedderTy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63440" y="5650560"/>
            <a:ext cx="2911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EmbedderTyp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52240" y="4877640"/>
            <a:ext cx="2146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DF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4080" y="2743920"/>
            <a:ext cx="2323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EmbedderTy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76480" y="1688400"/>
            <a:ext cx="16894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040" y="4039200"/>
            <a:ext cx="2024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Incl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68000" y="697680"/>
            <a:ext cx="1448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Incl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1" idx="0"/>
            <a:endCxn id="53" idx="2"/>
          </p:cNvCxnSpPr>
          <p:nvPr/>
        </p:nvCxnSpPr>
        <p:spPr>
          <a:xfrm flipV="1" rot="16200000">
            <a:off x="3095640" y="62640"/>
            <a:ext cx="622800" cy="2629080"/>
          </a:xfrm>
          <a:prstGeom prst="bentConnector3">
            <a:avLst>
              <a:gd name="adj1" fmla="val 50028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5" name=""/>
          <p:cNvCxnSpPr>
            <a:stCxn id="50" idx="0"/>
            <a:endCxn id="51" idx="2"/>
          </p:cNvCxnSpPr>
          <p:nvPr/>
        </p:nvCxnSpPr>
        <p:spPr>
          <a:xfrm flipH="1" flipV="1" rot="5400000">
            <a:off x="3529440" y="1552680"/>
            <a:ext cx="687600" cy="1695600"/>
          </a:xfrm>
          <a:prstGeom prst="bentConnector3">
            <a:avLst>
              <a:gd name="adj1" fmla="val 5002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6" name=""/>
          <p:cNvCxnSpPr>
            <a:stCxn id="47" idx="0"/>
            <a:endCxn id="50" idx="2"/>
          </p:cNvCxnSpPr>
          <p:nvPr/>
        </p:nvCxnSpPr>
        <p:spPr>
          <a:xfrm flipH="1" flipV="1" rot="5400000">
            <a:off x="765720" y="4000320"/>
            <a:ext cx="3148560" cy="1371960"/>
          </a:xfrm>
          <a:prstGeom prst="bentConnector3">
            <a:avLst>
              <a:gd name="adj1" fmla="val 5000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7" name=""/>
          <p:cNvCxnSpPr>
            <a:stCxn id="43" idx="0"/>
            <a:endCxn id="45" idx="2"/>
          </p:cNvCxnSpPr>
          <p:nvPr/>
        </p:nvCxnSpPr>
        <p:spPr>
          <a:xfrm flipH="1" flipV="1" rot="5400000">
            <a:off x="6502680" y="3425760"/>
            <a:ext cx="1776960" cy="1149480"/>
          </a:xfrm>
          <a:prstGeom prst="bentConnector3">
            <a:avLst>
              <a:gd name="adj1" fmla="val 5001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8" name=""/>
          <p:cNvCxnSpPr>
            <a:stCxn id="44" idx="0"/>
            <a:endCxn id="45" idx="2"/>
          </p:cNvCxnSpPr>
          <p:nvPr/>
        </p:nvCxnSpPr>
        <p:spPr>
          <a:xfrm flipV="1" rot="16200000">
            <a:off x="6702120" y="4375440"/>
            <a:ext cx="2527560" cy="720"/>
          </a:xfrm>
          <a:prstGeom prst="bentConnector3">
            <a:avLst>
              <a:gd name="adj1" fmla="val 5001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9" idx="0"/>
            <a:endCxn id="50" idx="2"/>
          </p:cNvCxnSpPr>
          <p:nvPr/>
        </p:nvCxnSpPr>
        <p:spPr>
          <a:xfrm flipV="1" rot="16200000">
            <a:off x="2342880" y="3795120"/>
            <a:ext cx="1765800" cy="399960"/>
          </a:xfrm>
          <a:prstGeom prst="bentConnector3">
            <a:avLst>
              <a:gd name="adj1" fmla="val 5002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8" idx="0"/>
            <a:endCxn id="49" idx="2"/>
          </p:cNvCxnSpPr>
          <p:nvPr/>
        </p:nvCxnSpPr>
        <p:spPr>
          <a:xfrm flipH="1" flipV="1" rot="5400000">
            <a:off x="3219840" y="5445360"/>
            <a:ext cx="405000" cy="6480"/>
          </a:xfrm>
          <a:prstGeom prst="bentConnector3">
            <a:avLst>
              <a:gd name="adj1" fmla="val 50088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6" idx="0"/>
            <a:endCxn id="51" idx="2"/>
          </p:cNvCxnSpPr>
          <p:nvPr/>
        </p:nvCxnSpPr>
        <p:spPr>
          <a:xfrm rot="16200000">
            <a:off x="3724200" y="3053520"/>
            <a:ext cx="199404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52" idx="0"/>
            <a:endCxn id="53" idx="2"/>
          </p:cNvCxnSpPr>
          <p:nvPr/>
        </p:nvCxnSpPr>
        <p:spPr>
          <a:xfrm flipH="1" flipV="1" rot="5400000">
            <a:off x="189360" y="2136600"/>
            <a:ext cx="2973600" cy="832320"/>
          </a:xfrm>
          <a:prstGeom prst="bentConnector3">
            <a:avLst>
              <a:gd name="adj1" fmla="val 5000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3" name=""/>
          <p:cNvSpPr/>
          <p:nvPr/>
        </p:nvSpPr>
        <p:spPr>
          <a:xfrm>
            <a:off x="6710760" y="62485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3160" y="15228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.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21Z</dcterms:modified>
  <cp:revision>26</cp:revision>
  <dc:subject/>
  <dc:title>Slide 1</dc:title>
</cp:coreProperties>
</file>