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3583-0A76-4B3D-8CDB-E6112F97D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CD1F-0359-429F-AED8-F0A0ED15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380B-8FCF-4DBF-A754-07CA0065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9E03-5821-439A-84E3-C9D49340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08C4-89B9-4D68-9D2E-91E3C421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CEA3-0664-44D2-95CE-71395D31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498E-3ABD-46CB-917D-96ABE54C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D850-27E4-4ADF-AB49-6AC695D2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120A-A870-4363-8450-7632BC50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1CBD-7F7D-4B24-A175-23D6D23F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A71C-F7AF-4EC6-A312-42137DED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DAB7-D484-4230-B1BB-94C5C5F4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D17E-A102-4AD2-AAF9-A40B0DB82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57200" y="1027080"/>
            <a:ext cx="8303400" cy="4763880"/>
            <a:chOff x="457200" y="1027080"/>
            <a:chExt cx="8303400" cy="4763880"/>
          </a:xfrm>
        </p:grpSpPr>
        <p:sp>
          <p:nvSpPr>
            <p:cNvPr id="43" name=""/>
            <p:cNvSpPr/>
            <p:nvPr/>
          </p:nvSpPr>
          <p:spPr>
            <a:xfrm>
              <a:off x="3304800" y="5180040"/>
              <a:ext cx="5455800" cy="61092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Java IO strea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" name=""/>
            <p:cNvCxnSpPr>
              <a:stCxn id="45" idx="2"/>
              <a:endCxn id="46" idx="1"/>
            </p:cNvCxnSpPr>
            <p:nvPr/>
          </p:nvCxnSpPr>
          <p:spPr>
            <a:xfrm flipH="1" rot="16200000">
              <a:off x="2306880" y="1401480"/>
              <a:ext cx="334800" cy="1661760"/>
            </a:xfrm>
            <a:prstGeom prst="bent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47" name=""/>
            <p:cNvSpPr/>
            <p:nvPr/>
          </p:nvSpPr>
          <p:spPr>
            <a:xfrm>
              <a:off x="3304800" y="4332240"/>
              <a:ext cx="5455800" cy="610200"/>
            </a:xfrm>
            <a:prstGeom prst="rect">
              <a:avLst/>
            </a:prstGeom>
            <a:solidFill>
              <a:srgbClr val="00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eeHEP IO strea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04800" y="2806920"/>
              <a:ext cx="5455800" cy="14238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eeHEP Graphics IO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ow-level format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(CGM, EMF, PDF and SWF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04800" y="2094840"/>
              <a:ext cx="5455800" cy="6102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reeHEP VectorGraphic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57200" y="1027080"/>
              <a:ext cx="2372760" cy="10382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reeHEP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portDialo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304800" y="1027080"/>
              <a:ext cx="5455800" cy="61020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Java Graphics2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1:28:06Z</dcterms:created>
  <dc:creator>duns</dc:creator>
  <dc:description/>
  <dc:language>en-US</dc:language>
  <cp:lastModifiedBy>duns</cp:lastModifiedBy>
  <dcterms:modified xsi:type="dcterms:W3CDTF">2003-03-22T20:03:58Z</dcterms:modified>
  <cp:revision>27</cp:revision>
  <dc:subject/>
  <dc:title>Slide 1</dc:title>
</cp:coreProperties>
</file>