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2A74-2060-468F-8159-866C1238F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C1CC-349E-4DF6-9E09-5C1BC4CBD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4844-1EDB-48D2-AA0B-F207D890A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38CF-DFA8-4E07-9CA4-C9390BF2E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80C1-56F1-437B-A3E3-2611B0F1A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E254-715E-484D-93DD-943D34696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C798-28FA-4B62-8F5D-F1770B774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BF9B-9BD7-4AE1-AAC2-C50093016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6EA7-926B-4672-AE1D-77DA173A5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AFEF-387E-4473-8B4B-CD4CFBD8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C401-F121-45D9-8E4E-8578E5A2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3D87-94B2-4C55-9AE7-CF5A5D24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8E52A-3743-41B3-B5BB-5A352FDD9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523880"/>
            <a:ext cx="9144000" cy="33530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8840" y="7632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aw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320" y="1523880"/>
            <a:ext cx="25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19320" y="5258520"/>
            <a:ext cx="2396880" cy="520920"/>
            <a:chOff x="319320" y="5258520"/>
            <a:chExt cx="2396880" cy="520920"/>
          </a:xfrm>
        </p:grpSpPr>
        <p:sp>
          <p:nvSpPr>
            <p:cNvPr id="47" name=""/>
            <p:cNvSpPr/>
            <p:nvPr/>
          </p:nvSpPr>
          <p:spPr>
            <a:xfrm>
              <a:off x="319320" y="5258520"/>
              <a:ext cx="1742760" cy="368280"/>
            </a:xfrm>
            <a:prstGeom prst="rect">
              <a:avLst/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STagHandl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95240" y="5411160"/>
              <a:ext cx="1920960" cy="368280"/>
            </a:xfrm>
            <a:prstGeom prst="rect">
              <a:avLst/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VGTagHandl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1767240" y="3974400"/>
            <a:ext cx="2288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icTagHand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00" y="2145600"/>
            <a:ext cx="1438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Hand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144920" y="2123280"/>
            <a:ext cx="12992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t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405560" y="240480"/>
            <a:ext cx="7779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75600" y="2145600"/>
            <a:ext cx="1249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stCxn id="47" idx="0"/>
            <a:endCxn id="50" idx="2"/>
          </p:cNvCxnSpPr>
          <p:nvPr/>
        </p:nvCxnSpPr>
        <p:spPr>
          <a:xfrm rot="16200000">
            <a:off x="-181800" y="3886200"/>
            <a:ext cx="274500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5" name=""/>
          <p:cNvCxnSpPr>
            <a:stCxn id="49" idx="0"/>
            <a:endCxn id="50" idx="2"/>
          </p:cNvCxnSpPr>
          <p:nvPr/>
        </p:nvCxnSpPr>
        <p:spPr>
          <a:xfrm flipV="1" rot="16200000">
            <a:off x="1320840" y="2383560"/>
            <a:ext cx="1460880" cy="1721160"/>
          </a:xfrm>
          <a:prstGeom prst="bentConnector3">
            <a:avLst>
              <a:gd name="adj1" fmla="val 5001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6" name=""/>
          <p:cNvCxnSpPr>
            <a:stCxn id="51" idx="0"/>
            <a:endCxn id="52" idx="2"/>
          </p:cNvCxnSpPr>
          <p:nvPr/>
        </p:nvCxnSpPr>
        <p:spPr>
          <a:xfrm rot="16200000">
            <a:off x="7037280" y="1365840"/>
            <a:ext cx="151488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57" name=""/>
          <p:cNvSpPr/>
          <p:nvPr/>
        </p:nvSpPr>
        <p:spPr>
          <a:xfrm>
            <a:off x="4966920" y="2134440"/>
            <a:ext cx="16923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mbolSh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80200" y="240480"/>
            <a:ext cx="866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57" idx="0"/>
            <a:endCxn id="58" idx="2"/>
          </p:cNvCxnSpPr>
          <p:nvPr/>
        </p:nvCxnSpPr>
        <p:spPr>
          <a:xfrm flipH="1" flipV="1" rot="5400000">
            <a:off x="5050080" y="1371600"/>
            <a:ext cx="1526040" cy="720"/>
          </a:xfrm>
          <a:prstGeom prst="bentConnector3">
            <a:avLst>
              <a:gd name="adj1" fmla="val 50023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60" name=""/>
          <p:cNvSpPr/>
          <p:nvPr/>
        </p:nvSpPr>
        <p:spPr>
          <a:xfrm>
            <a:off x="6894720" y="487692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0T01:28:06Z</dcterms:created>
  <dc:creator>duns</dc:creator>
  <dc:description/>
  <dc:language>en-US</dc:language>
  <cp:lastModifiedBy>duns</cp:lastModifiedBy>
  <dcterms:modified xsi:type="dcterms:W3CDTF">2003-03-22T01:18:47Z</dcterms:modified>
  <cp:revision>26</cp:revision>
  <dc:subject/>
  <dc:title>Slide 1</dc:title>
</cp:coreProperties>
</file>