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DD3-DBB5-4246-902E-DA6C387A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2F0-76A1-4724-BDDA-5E30BB90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3B8-63AE-477D-9D6E-2987914C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577-83D7-4F1F-8167-B28813FB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A84-27AF-4564-AE60-7F6B9A12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839-80DB-46E3-A30C-D735A5EC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A9C-80BA-4ED1-A4A5-9185B170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35B-3DB5-4542-B43B-CD0879DC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749-C0A9-44CF-9ED4-8155C943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443-52FF-4DDD-AD75-569B3755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66B-8D42-4AFB-991F-B3CFD7A0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2BD-8A66-4296-B607-A71ECAE0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4EB7-74D1-42CF-B6F0-94B4A2CD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3124080" cy="205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20" y="3429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" y="54864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36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dToCub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580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Qua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4840" y="991440"/>
            <a:ext cx="266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7760" y="229320"/>
            <a:ext cx="182952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9840" y="5715720"/>
            <a:ext cx="2517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9800" y="4583880"/>
            <a:ext cx="2626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yline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320" y="4355280"/>
            <a:ext cx="2276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String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42840" y="6020640"/>
            <a:ext cx="3552120" cy="661680"/>
            <a:chOff x="1842840" y="6020640"/>
            <a:chExt cx="3552120" cy="661680"/>
          </a:xfrm>
        </p:grpSpPr>
        <p:sp>
          <p:nvSpPr>
            <p:cNvPr id="55" name=""/>
            <p:cNvSpPr/>
            <p:nvPr/>
          </p:nvSpPr>
          <p:spPr>
            <a:xfrm>
              <a:off x="1842840" y="6020640"/>
              <a:ext cx="24667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6172920"/>
              <a:ext cx="22885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4160" y="6314040"/>
              <a:ext cx="244080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0"/>
            <a:endCxn id="52" idx="2"/>
          </p:cNvCxnSpPr>
          <p:nvPr/>
        </p:nvCxnSpPr>
        <p:spPr>
          <a:xfrm flipH="1" flipV="1" rot="5400000">
            <a:off x="5898600" y="5331600"/>
            <a:ext cx="763920" cy="504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52" idx="0"/>
            <a:endCxn id="60" idx="2"/>
          </p:cNvCxnSpPr>
          <p:nvPr/>
        </p:nvCxnSpPr>
        <p:spPr>
          <a:xfrm flipH="1" flipV="1" rot="5400000">
            <a:off x="6035400" y="4331160"/>
            <a:ext cx="500760" cy="5400"/>
          </a:xfrm>
          <a:prstGeom prst="bentConnector3">
            <a:avLst>
              <a:gd name="adj1" fmla="val 5007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9" idx="2"/>
          </p:cNvCxnSpPr>
          <p:nvPr/>
        </p:nvCxnSpPr>
        <p:spPr>
          <a:xfrm flipV="1" rot="16200000">
            <a:off x="6387120" y="741240"/>
            <a:ext cx="805320" cy="20422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50" idx="2"/>
          </p:cNvCxnSpPr>
          <p:nvPr/>
        </p:nvCxnSpPr>
        <p:spPr>
          <a:xfrm flipV="1" rot="16200000">
            <a:off x="5568480" y="791280"/>
            <a:ext cx="394200" cy="6480"/>
          </a:xfrm>
          <a:prstGeom prst="bentConnector3">
            <a:avLst>
              <a:gd name="adj1" fmla="val 5009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567120" y="6325200"/>
            <a:ext cx="2492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6" idx="0"/>
            <a:endCxn id="47" idx="2"/>
          </p:cNvCxnSpPr>
          <p:nvPr/>
        </p:nvCxnSpPr>
        <p:spPr>
          <a:xfrm flipH="1" flipV="1" rot="5400000">
            <a:off x="1913760" y="4489920"/>
            <a:ext cx="3366000" cy="72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" name=""/>
          <p:cNvCxnSpPr>
            <a:stCxn id="47" idx="0"/>
            <a:endCxn id="49" idx="2"/>
          </p:cNvCxnSpPr>
          <p:nvPr/>
        </p:nvCxnSpPr>
        <p:spPr>
          <a:xfrm flipH="1" flipV="1" rot="5400000">
            <a:off x="4280400" y="676440"/>
            <a:ext cx="805320" cy="21718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3" idx="0"/>
            <a:endCxn id="48" idx="2"/>
          </p:cNvCxnSpPr>
          <p:nvPr/>
        </p:nvCxnSpPr>
        <p:spPr>
          <a:xfrm flipV="1" rot="16200000">
            <a:off x="6053040" y="4564800"/>
            <a:ext cx="3518280" cy="324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0"/>
            <a:endCxn id="47" idx="2"/>
          </p:cNvCxnSpPr>
          <p:nvPr/>
        </p:nvCxnSpPr>
        <p:spPr>
          <a:xfrm flipV="1" rot="16200000">
            <a:off x="4625640" y="1778400"/>
            <a:ext cx="633960" cy="2691360"/>
          </a:xfrm>
          <a:prstGeom prst="bentConnector3">
            <a:avLst>
              <a:gd name="adj1" fmla="val 5005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3" idx="0"/>
            <a:endCxn id="47" idx="2"/>
          </p:cNvCxnSpPr>
          <p:nvPr/>
        </p:nvCxnSpPr>
        <p:spPr>
          <a:xfrm flipH="1" flipV="1" rot="5400000">
            <a:off x="1753200" y="2511360"/>
            <a:ext cx="1548360" cy="214020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5373360" y="34408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Lin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35Z</dcterms:modified>
  <cp:revision>26</cp:revision>
  <dc:subject/>
  <dc:title>Slide 1</dc:title>
</cp:coreProperties>
</file>