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A403-ED07-41B9-8D75-0A237FC53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9280" y="3625560"/>
            <a:ext cx="87854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178A-ABEC-4196-A4DC-995F8151F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928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5960-13BE-45E0-B174-FD0B9B093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9640" y="69192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000" y="69192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9280" y="362556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9640" y="362556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000" y="362556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F74F-2BBF-4879-B192-E320570ED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90400" y="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8F60-100B-4115-AC2A-C831CD548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144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625560"/>
            <a:ext cx="87854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3625560"/>
            <a:ext cx="87854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144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49640" y="69192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0000" y="69192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362556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49640" y="362556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0000" y="3625560"/>
            <a:ext cx="282852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0D3E-B3F8-46DD-8EFA-CB99DF3CD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D43C-4FF1-422A-9BBF-2AB7F26D8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1CBC-F096-417D-9E4F-897EE5A4F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90400" y="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E6B1-B532-4C7F-9C26-2B09EDAE6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7C5-F0D4-4D72-8F84-F9379E5F2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362556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4E77-C11E-48A8-9125-B63BA7A5C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691920"/>
            <a:ext cx="42872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625560"/>
            <a:ext cx="878544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BAC1-FDDC-4283-8AA6-68F3AD342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9640" y="0"/>
            <a:ext cx="8604360" cy="549360"/>
          </a:xfrm>
          <a:prstGeom prst="rect">
            <a:avLst/>
          </a:prstGeom>
          <a:solidFill>
            <a:srgbClr val="e0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d5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24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24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24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d5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539640" cy="549360"/>
          </a:xfrm>
          <a:prstGeom prst="rect">
            <a:avLst/>
          </a:prstGeom>
          <a:solidFill>
            <a:srgbClr val="333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333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rcRect l="10431" t="-1565" r="10431" b="-25163"/>
          <a:stretch/>
        </p:blipFill>
        <p:spPr>
          <a:xfrm>
            <a:off x="7440480" y="6524640"/>
            <a:ext cx="1668600" cy="2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4749840" y="6546960"/>
          <a:ext cx="2639880" cy="15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49840" y="6546960"/>
                    <a:ext cx="2639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160" y="6524640"/>
            <a:ext cx="156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C) NetConscious, In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3517560" y="6380280"/>
            <a:ext cx="2133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Lucida Conso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175C-C5D8-4303-B91E-CD0B6EA4FBB6}" type="slidenum"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8" action="ppaction://hlinksldjump"/>
          </p:cNvPr>
          <p:cNvSpPr/>
          <p:nvPr/>
        </p:nvSpPr>
        <p:spPr>
          <a:xfrm>
            <a:off x="867564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997000"/>
            <a:ext cx="86421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47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9347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4640"/>
            <a:ext cx="9144000" cy="2449800"/>
          </a:xfrm>
          <a:prstGeom prst="rect">
            <a:avLst/>
          </a:prstGeom>
          <a:solidFill>
            <a:srgbClr val="333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0431" t="-1565" r="10431" b="-25163"/>
          <a:stretch/>
        </p:blipFill>
        <p:spPr>
          <a:xfrm>
            <a:off x="7308720" y="6594480"/>
            <a:ext cx="1668600" cy="2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31760" y="115920"/>
          <a:ext cx="263988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" y="115920"/>
                    <a:ext cx="2639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aeb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04640"/>
            <a:ext cx="2448000" cy="2448000"/>
          </a:xfrm>
          <a:prstGeom prst="rect">
            <a:avLst/>
          </a:prstGeom>
          <a:solidFill>
            <a:srgbClr val="aeb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997000"/>
            <a:ext cx="86421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479"/>
                </a:solidFill>
                <a:latin typeface="Arial"/>
                <a:ea typeface="MS UI Gothic"/>
              </a:rPr>
              <a:t>DarumaClient/CSV </a:t>
            </a:r>
            <a:r>
              <a:rPr b="1" lang="zh-CN" sz="3600" spc="-1" strike="noStrike">
                <a:solidFill>
                  <a:srgbClr val="193479"/>
                </a:solidFill>
                <a:latin typeface="Arial"/>
                <a:ea typeface="MS UI Gothic"/>
              </a:rPr>
              <a:t>の概要</a:t>
            </a:r>
            <a:endParaRPr b="1" lang="en-US" sz="3600" spc="-1" strike="noStrike">
              <a:solidFill>
                <a:srgbClr val="1934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9920" y="4724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0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Conscious,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.2.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d5f"/>
                </a:solidFill>
                <a:latin typeface="Arial"/>
              </a:rPr>
              <a:t>機能概要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DarumaClient/CSV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の機能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（ＭＩＳＰ）を使用したリクエスト送受信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gisterFeatur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t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t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escribeFeatur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を使用したリクエスト送信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t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ーキテクチ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本構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ラス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88F0-64B1-4AE1-9ECF-51BBA751C8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d5f"/>
                </a:solidFill>
                <a:latin typeface="Arial"/>
              </a:rPr>
              <a:t>XML</a:t>
            </a:r>
            <a:r>
              <a:rPr b="1" lang="zh-CN" sz="2400" spc="-1" strike="noStrike">
                <a:solidFill>
                  <a:srgbClr val="333d5f"/>
                </a:solidFill>
                <a:latin typeface="Arial"/>
              </a:rPr>
              <a:t>ファイルを使用したリクエスト送受信機能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使用方法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標準入力から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を入力し、結果を標準出力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darumaClien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&lt; request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ファイルから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を入力し、結果を標準出力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darumaClien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in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quest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ファイルから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を入力し、結果をファイル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darumaClien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in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quest.xml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ou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sponse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59A0-2816-4D41-8B9A-5FF0B3AB8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d5f"/>
                </a:solidFill>
                <a:latin typeface="Arial"/>
              </a:rPr>
              <a:t>CSV</a:t>
            </a:r>
            <a:r>
              <a:rPr b="1" lang="ja-JP" sz="2400" spc="-1" strike="noStrike">
                <a:solidFill>
                  <a:srgbClr val="333d5f"/>
                </a:solidFill>
                <a:latin typeface="Arial"/>
              </a:rPr>
              <a:t>ファイルを使用した</a:t>
            </a:r>
            <a:r>
              <a:rPr b="1" lang="ja-JP" sz="2400" spc="-1" strike="noStrike">
                <a:solidFill>
                  <a:srgbClr val="333d5f"/>
                </a:solidFill>
                <a:latin typeface="Arial"/>
              </a:rPr>
              <a:t>GetFeature</a:t>
            </a:r>
            <a:r>
              <a:rPr b="1" lang="ja-JP" sz="2400" spc="-1" strike="noStrike">
                <a:solidFill>
                  <a:srgbClr val="333d5f"/>
                </a:solidFill>
                <a:latin typeface="Arial"/>
              </a:rPr>
              <a:t>リクエスト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Daruma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サーバからの結果を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CSV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に変換して出力します。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使用方法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標準入力か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入力し、結果を標準出力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csvGetFeature 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csvcfg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csv.config.xml &lt; request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ファイルから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を入力し、結果を標準出力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csvGetFeature 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csvcfg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csv.config.xml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in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quest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ファイルから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を入力し、結果をファイル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csvGetFeature 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csvcfg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csv.config.xml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in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quest.xml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ou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sponse.c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d5f"/>
                </a:solidFill>
                <a:latin typeface="Arial"/>
              </a:rPr>
              <a:t>CSV</a:t>
            </a:r>
            <a:r>
              <a:rPr b="1" lang="ja-JP" sz="1800" spc="-1" strike="noStrike">
                <a:solidFill>
                  <a:srgbClr val="333d5f"/>
                </a:solidFill>
                <a:latin typeface="Arial"/>
              </a:rPr>
              <a:t>定義ファイル</a:t>
            </a:r>
            <a:endParaRPr b="1" lang="en-US" sz="18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csvcf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プションで指定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機能を使用するために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スキーマのマッピング情報が定義されたファイルが必要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5328-B51D-483A-B9E5-2C0C7CF13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d5f"/>
                </a:solidFill>
                <a:latin typeface="Arial"/>
              </a:rPr>
              <a:t>CSV</a:t>
            </a:r>
            <a:r>
              <a:rPr b="1" lang="zh-CN" sz="2400" spc="-1" strike="noStrike">
                <a:solidFill>
                  <a:srgbClr val="333d5f"/>
                </a:solidFill>
                <a:latin typeface="Arial"/>
              </a:rPr>
              <a:t>ファイルを使用した</a:t>
            </a:r>
            <a:r>
              <a:rPr b="1" lang="en-US" sz="2400" spc="-1" strike="noStrike">
                <a:solidFill>
                  <a:srgbClr val="333d5f"/>
                </a:solidFill>
                <a:latin typeface="Arial"/>
              </a:rPr>
              <a:t>Insert</a:t>
            </a:r>
            <a:r>
              <a:rPr b="1" lang="zh-CN" sz="2400" spc="-1" strike="noStrike">
                <a:solidFill>
                  <a:srgbClr val="333d5f"/>
                </a:solidFill>
                <a:latin typeface="Arial"/>
              </a:rPr>
              <a:t>リクエスト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CSV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ファイルを使用して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Daruma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サーバへデータを登録します。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使用方法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標準入力か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入力し、結果を標準出力に表示</a:t>
            </a:r>
            <a:br>
              <a:rPr sz="1400"/>
            </a:b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csvInsert 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csvcfg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csv.config.xml &lt; request.c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ァイルか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入力し、結果を標準出力に表示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csvInsert 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csvcfg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csv.config.xml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in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quest.c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ァイルか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入力し、結果をファイルに表示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csvInsert –hos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192.168.0.1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csvcfg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csv.config.xml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in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quest.csv </a:t>
            </a:r>
            <a:r>
              <a:rPr b="1" lang="ja-JP" sz="1400" spc="-1" strike="noStrike">
                <a:solidFill>
                  <a:srgbClr val="0000cc"/>
                </a:solidFill>
                <a:latin typeface="Courier New"/>
              </a:rPr>
              <a:t>–out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response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d5f"/>
                </a:solidFill>
                <a:latin typeface="Arial"/>
              </a:rPr>
              <a:t>CSV</a:t>
            </a:r>
            <a:r>
              <a:rPr b="1" lang="ja-JP" sz="1800" spc="-1" strike="noStrike">
                <a:solidFill>
                  <a:srgbClr val="333d5f"/>
                </a:solidFill>
                <a:latin typeface="Arial"/>
              </a:rPr>
              <a:t>定義ファイル</a:t>
            </a:r>
            <a:endParaRPr b="1" lang="en-US" sz="18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csvcf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プションで指定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機能を使用するために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スキーマのマッピング情報が定義されたファイルが必要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4E65-3FE3-4C2C-90AD-827D9FB6E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03280" y="4581360"/>
            <a:ext cx="575964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svGetFeatur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マン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5080" y="2565360"/>
            <a:ext cx="575928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svInser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マン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d5f"/>
                </a:solidFill>
                <a:latin typeface="Arial"/>
              </a:rPr>
              <a:t>基本構造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Message 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と </a:t>
            </a:r>
            <a:r>
              <a:rPr b="1" lang="ja-JP" sz="2000" spc="-1" strike="noStrike">
                <a:solidFill>
                  <a:srgbClr val="333d5f"/>
                </a:solidFill>
                <a:latin typeface="Arial"/>
              </a:rPr>
              <a:t>Processor</a:t>
            </a: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arumaClien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ブジェクト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cesso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ブジェクトによって構成されており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cesso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ブジェクトを追加拡張することにより、さまざまなフォーマットへメッセージデータを変換することができます。以下に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svInser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svGetFeatur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構造を示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d5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20720" y="2997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読み込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213000"/>
            <a:ext cx="866520" cy="7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9440" y="2997360"/>
            <a:ext cx="1296720" cy="115236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V-&gt;M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変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2997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データフィル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2920" y="2997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送受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7800" y="3213000"/>
            <a:ext cx="934920" cy="7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2160" y="3357720"/>
            <a:ext cx="503280" cy="431640"/>
          </a:xfrm>
          <a:prstGeom prst="rightArrow">
            <a:avLst>
              <a:gd name="adj1" fmla="val 54407"/>
              <a:gd name="adj2" fmla="val 6142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357720"/>
            <a:ext cx="503280" cy="431640"/>
          </a:xfrm>
          <a:prstGeom prst="rightArrow">
            <a:avLst>
              <a:gd name="adj1" fmla="val 54407"/>
              <a:gd name="adj2" fmla="val 6142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013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P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読み込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229360"/>
            <a:ext cx="86652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5013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P-&gt;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変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5013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データフィル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5013360"/>
            <a:ext cx="1297080" cy="11523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lnTo>
                  <a:pt x="2723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送受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Process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229360"/>
            <a:ext cx="93492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373720"/>
            <a:ext cx="503280" cy="431640"/>
          </a:xfrm>
          <a:prstGeom prst="rightArrow">
            <a:avLst>
              <a:gd name="adj1" fmla="val 54407"/>
              <a:gd name="adj2" fmla="val 6142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5373720"/>
            <a:ext cx="503280" cy="431640"/>
          </a:xfrm>
          <a:prstGeom prst="rightArrow">
            <a:avLst>
              <a:gd name="adj1" fmla="val 54407"/>
              <a:gd name="adj2" fmla="val 6142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4560" y="3357720"/>
            <a:ext cx="217440" cy="431640"/>
          </a:xfrm>
          <a:prstGeom prst="rightArrow">
            <a:avLst>
              <a:gd name="adj1" fmla="val 54407"/>
              <a:gd name="adj2" fmla="val 5268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3357720"/>
            <a:ext cx="217440" cy="431640"/>
          </a:xfrm>
          <a:prstGeom prst="rightArrow">
            <a:avLst>
              <a:gd name="adj1" fmla="val 54407"/>
              <a:gd name="adj2" fmla="val 5268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3357720"/>
            <a:ext cx="217440" cy="431640"/>
          </a:xfrm>
          <a:prstGeom prst="rightArrow">
            <a:avLst>
              <a:gd name="adj1" fmla="val 54407"/>
              <a:gd name="adj2" fmla="val 5268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373720"/>
            <a:ext cx="217440" cy="431640"/>
          </a:xfrm>
          <a:prstGeom prst="rightArrow">
            <a:avLst>
              <a:gd name="adj1" fmla="val 54407"/>
              <a:gd name="adj2" fmla="val 5268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6160" y="5373720"/>
            <a:ext cx="217440" cy="431640"/>
          </a:xfrm>
          <a:prstGeom prst="rightArrow">
            <a:avLst>
              <a:gd name="adj1" fmla="val 54407"/>
              <a:gd name="adj2" fmla="val 5268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3080" y="5373720"/>
            <a:ext cx="217440" cy="431640"/>
          </a:xfrm>
          <a:prstGeom prst="rightArrow">
            <a:avLst>
              <a:gd name="adj1" fmla="val 54407"/>
              <a:gd name="adj2" fmla="val 5268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49C8-4FCE-4524-BA1D-DF4B15374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d5f"/>
                </a:solidFill>
                <a:latin typeface="Arial"/>
              </a:rPr>
              <a:t>クラス図</a:t>
            </a:r>
            <a:endParaRPr b="1" lang="en-US" sz="2400" spc="-1" strike="noStrike">
              <a:solidFill>
                <a:srgbClr val="333d5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DE2E-D704-4022-9B9D-D54F3492F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0:21:41Z</dcterms:created>
  <dc:creator>matsuokam</dc:creator>
  <dc:description/>
  <dc:language>en-US</dc:language>
  <cp:lastModifiedBy>masanori</cp:lastModifiedBy>
  <dcterms:modified xsi:type="dcterms:W3CDTF">2006-02-24T06:23:37Z</dcterms:modified>
  <cp:revision>12</cp:revision>
  <dc:subject/>
  <dc:title>[title]</dc:title>
</cp:coreProperties>
</file>