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D610-A16F-42F5-9A37-78B80A291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59B5-4818-4735-A864-AC7C9A76B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D357-F25C-425B-8E64-97E808B7C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83B8-8FE1-4933-9601-941BEFEF8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4F08-B78C-4B52-9F70-A0E9F9995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CDCE-3893-4F3C-B7EB-1F2FDC5F6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35F7-DCA7-49B1-81BB-0F62C6AA3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6231-0344-4C42-BA03-E593F3AD2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7721-9D75-41A3-A3DF-E0BFA388F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0008-EA9B-4C3E-A383-F55E153E7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1185-DD2E-4260-ABEB-44B1C2870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9A6B-6174-45CA-9CE7-EAA571CBC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379BE-86AA-47ED-A70A-4A1F565278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の受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34136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90792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141300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260280"/>
            <a:ext cx="1440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76720" y="620640"/>
            <a:ext cx="2303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51280" y="549360"/>
            <a:ext cx="115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84720" y="620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v-&gt;InBu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836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v(s, buf, len, 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76720" y="54936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80000" y="333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024)by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68360" y="54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24360" y="620640"/>
            <a:ext cx="935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32240" y="655560"/>
            <a:ext cx="3192120" cy="469800"/>
          </a:xfrm>
          <a:custGeom>
            <a:avLst/>
            <a:gdLst/>
            <a:ahLst/>
            <a:rect l="l" t="t" r="r" b="b"/>
            <a:pathLst>
              <a:path w="2154" h="311">
                <a:moveTo>
                  <a:pt x="106" y="205"/>
                </a:moveTo>
                <a:cubicBezTo>
                  <a:pt x="53" y="125"/>
                  <a:pt x="0" y="46"/>
                  <a:pt x="151" y="23"/>
                </a:cubicBezTo>
                <a:cubicBezTo>
                  <a:pt x="302" y="0"/>
                  <a:pt x="711" y="23"/>
                  <a:pt x="1013" y="69"/>
                </a:cubicBezTo>
                <a:cubicBezTo>
                  <a:pt x="1315" y="115"/>
                  <a:pt x="1776" y="281"/>
                  <a:pt x="1965" y="296"/>
                </a:cubicBezTo>
                <a:cubicBezTo>
                  <a:pt x="2154" y="311"/>
                  <a:pt x="2150" y="235"/>
                  <a:pt x="2147" y="15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98100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2000" y="98100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148428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X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16000" y="2060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T_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17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68360" y="112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0000" y="558972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0000" y="5661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6308640"/>
            <a:ext cx="30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len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READAMOU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6237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80000" y="558972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80000" y="544500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5157720"/>
            <a:ext cx="16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6165720"/>
            <a:ext cx="2448000" cy="503280"/>
          </a:xfrm>
          <a:prstGeom prst="wedgeRoundRectCallout">
            <a:avLst>
              <a:gd name="adj1" fmla="val 75745"/>
              <a:gd name="adj2" fmla="val -9100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受信し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実パケット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5157720"/>
            <a:ext cx="165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35280" y="5300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0000" y="530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08720" y="479736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0000" y="429264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80000" y="429264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429264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3789360"/>
            <a:ext cx="16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8000" y="39337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24360" y="3933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24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8800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4149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95640" y="3860640"/>
            <a:ext cx="201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80000" y="472428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67280" y="4797360"/>
            <a:ext cx="12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otal_packet_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35640" y="342900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80000" y="278136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80000" y="278136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80000" y="278136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2436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8800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38560" y="2781360"/>
            <a:ext cx="647640" cy="360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67280" y="2276640"/>
            <a:ext cx="24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40360" y="263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184464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2436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27320" y="20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4120" y="2349360"/>
            <a:ext cx="2651040" cy="1187640"/>
          </a:xfrm>
          <a:custGeom>
            <a:avLst/>
            <a:gdLst/>
            <a:ahLst/>
            <a:rect l="l" t="t" r="r" b="b"/>
            <a:pathLst>
              <a:path w="1670" h="748">
                <a:moveTo>
                  <a:pt x="53" y="0"/>
                </a:moveTo>
                <a:cubicBezTo>
                  <a:pt x="26" y="189"/>
                  <a:pt x="0" y="378"/>
                  <a:pt x="189" y="499"/>
                </a:cubicBezTo>
                <a:cubicBezTo>
                  <a:pt x="378" y="620"/>
                  <a:pt x="953" y="702"/>
                  <a:pt x="1187" y="725"/>
                </a:cubicBezTo>
                <a:cubicBezTo>
                  <a:pt x="1421" y="748"/>
                  <a:pt x="1520" y="688"/>
                  <a:pt x="1595" y="635"/>
                </a:cubicBezTo>
                <a:cubicBezTo>
                  <a:pt x="1670" y="582"/>
                  <a:pt x="1655" y="495"/>
                  <a:pt x="1640" y="4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4437000"/>
            <a:ext cx="2447640" cy="576360"/>
          </a:xfrm>
          <a:prstGeom prst="wedgeRoundRectCallout">
            <a:avLst>
              <a:gd name="adj1" fmla="val 75745"/>
              <a:gd name="adj2" fmla="val -48347"/>
              <a:gd name="adj3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つ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2924280"/>
            <a:ext cx="1800000" cy="576000"/>
          </a:xfrm>
          <a:prstGeom prst="wedgeRoundRectCallout">
            <a:avLst>
              <a:gd name="adj1" fmla="val 74513"/>
              <a:gd name="adj2" fmla="val 13083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で渡されてきたプレーンデータを返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8-17T15:12:43Z</dcterms:modified>
  <cp:revision>343</cp:revision>
  <dc:subject/>
  <dc:title>DDEのしくみ</dc:title>
</cp:coreProperties>
</file>