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2A444-559B-4651-9576-E6D58080C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5CA58-9A60-44D7-A2C7-CFBDE58E2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21399-34CA-452D-9AEB-B3ED46CE6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7279C-1954-43B1-BE74-16074FA2F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9AC8B-6160-4EA0-884A-A14142392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5DC1A-3092-4B83-9648-04B3E9664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D351B-D014-4E31-8271-089AE8797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29BBC-292F-40F5-9A11-39B7ED915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222C7-E246-416F-8561-B5E13BFDC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B6A3B-E963-40C3-A0F4-2E6A81F17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37C54-BE30-4F2A-BCBB-C608E2EC7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C3E92-54B8-4BC0-848F-17A84060F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147BE-6BB4-48C6-9F49-04136C7A6A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DE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のバッファ管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49360"/>
            <a:ext cx="107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 u="sng">
                <a:solidFill>
                  <a:srgbClr val="000000"/>
                </a:solidFill>
                <a:uFillTx/>
                <a:latin typeface="Arial"/>
              </a:rPr>
              <a:t>TComVar c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19280" y="1052640"/>
            <a:ext cx="151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32000" y="1052640"/>
            <a:ext cx="2160720" cy="187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250920" y="907920"/>
            <a:ext cx="1368360" cy="2017800"/>
            <a:chOff x="250920" y="907920"/>
            <a:chExt cx="1368360" cy="2017800"/>
          </a:xfrm>
        </p:grpSpPr>
        <p:sp>
          <p:nvSpPr>
            <p:cNvPr id="46" name=""/>
            <p:cNvSpPr/>
            <p:nvPr/>
          </p:nvSpPr>
          <p:spPr>
            <a:xfrm>
              <a:off x="250920" y="90792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HLogBuf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ポイン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0920" y="119700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LogBuf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ポイン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50920" y="148428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Log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Pt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50920" y="177336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St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50920" y="206064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Cou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920" y="234936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St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0920" y="263700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Cou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"/>
          <p:cNvSpPr/>
          <p:nvPr/>
        </p:nvSpPr>
        <p:spPr>
          <a:xfrm flipV="1">
            <a:off x="1619280" y="1052640"/>
            <a:ext cx="151272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03640" y="3068640"/>
            <a:ext cx="20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バッファ（空きあり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132000" y="1052640"/>
            <a:ext cx="2160720" cy="1296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デー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19280" y="1628640"/>
            <a:ext cx="1512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435640" y="1052640"/>
            <a:ext cx="0" cy="1871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003640" y="765000"/>
            <a:ext cx="115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InBuffSize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1619280" y="1844640"/>
            <a:ext cx="165744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1619280" y="1052640"/>
            <a:ext cx="1512720" cy="144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763640" y="422100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395280" y="4076640"/>
            <a:ext cx="1368360" cy="2017800"/>
            <a:chOff x="395280" y="4076640"/>
            <a:chExt cx="1368360" cy="2017800"/>
          </a:xfrm>
        </p:grpSpPr>
        <p:sp>
          <p:nvSpPr>
            <p:cNvPr id="63" name=""/>
            <p:cNvSpPr/>
            <p:nvPr/>
          </p:nvSpPr>
          <p:spPr>
            <a:xfrm>
              <a:off x="395280" y="407664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HLogBuf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ポイン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95280" y="436572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LogBuf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ポイン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95280" y="465300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Log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Pt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95280" y="494208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St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95280" y="522936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Cou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95280" y="551808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St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95280" y="580572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Cou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"/>
          <p:cNvSpPr/>
          <p:nvPr/>
        </p:nvSpPr>
        <p:spPr>
          <a:xfrm flipV="1">
            <a:off x="1763640" y="4220640"/>
            <a:ext cx="151308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348000" y="6237360"/>
            <a:ext cx="20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バッファ（フル状態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76720" y="4221000"/>
            <a:ext cx="2160360" cy="1872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デー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763640" y="4797360"/>
            <a:ext cx="15130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80000" y="4221000"/>
            <a:ext cx="0" cy="187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003640" y="3933720"/>
            <a:ext cx="115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InBuffSize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1763640" y="5013360"/>
            <a:ext cx="165744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1763640" y="5516280"/>
            <a:ext cx="1513080" cy="14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76720" y="5516640"/>
            <a:ext cx="2158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132000" y="2205000"/>
            <a:ext cx="2160720" cy="1443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最新デー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76720" y="1052640"/>
            <a:ext cx="0" cy="129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76720" y="5373720"/>
            <a:ext cx="2160360" cy="1443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最新デー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421080" y="4221000"/>
            <a:ext cx="0" cy="187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012000" y="1052640"/>
            <a:ext cx="215640" cy="1296720"/>
          </a:xfrm>
          <a:prstGeom prst="downArrow">
            <a:avLst>
              <a:gd name="adj1" fmla="val 50000"/>
              <a:gd name="adj2" fmla="val 15033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56360" y="1484280"/>
            <a:ext cx="107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の時系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940360" y="5560920"/>
            <a:ext cx="216000" cy="604800"/>
          </a:xfrm>
          <a:prstGeom prst="downArrow">
            <a:avLst>
              <a:gd name="adj1" fmla="val 50000"/>
              <a:gd name="adj2" fmla="val 7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156360" y="5734080"/>
            <a:ext cx="107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の時系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084720" y="616572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084720" y="645336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7308720" y="3933360"/>
            <a:ext cx="0" cy="2519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6012000" y="3933720"/>
            <a:ext cx="12967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012000" y="3933720"/>
            <a:ext cx="0" cy="1582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516720" y="2060640"/>
            <a:ext cx="2519280" cy="1584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はリングバッフ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バッファフルの場合は最古のデー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から上書きされ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ログバッファと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は共有され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tar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から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Coun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分が有効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データとな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ログ採取とマクロ実行を同時に行う場合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Star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tar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Coun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Coun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同一値にな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2-20T16:00:59Z</dcterms:modified>
  <cp:revision>114</cp:revision>
  <dc:subject/>
  <dc:title>DDEのしくみ</dc:title>
</cp:coreProperties>
</file>