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D97-12A7-44D1-A6F5-F09EE4CD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CCA-BA58-4B24-B3FC-AF420808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0B2A-B96D-42B6-AACC-107B61E5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9A01-2C24-45DD-A59D-9DE9D501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509-EF7C-497F-9437-816A9BCE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C60-00D8-4EAC-AC97-77FA9955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C7C-6586-4F1E-8118-A153F7D1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A75-83B9-438A-BED8-DF33EAE9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507960"/>
            <a:ext cx="6476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BC0-B887-411E-AD8D-39003500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135-4ECF-4B2B-BB2F-A723CB3B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2D1-890A-45EE-A899-2DD74A35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4DB-6BC3-41FF-ABE1-33B013D8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 fontScale="98000"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379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96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440" indent="-191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5207040"/>
            <a:ext cx="158724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7040"/>
            <a:ext cx="241308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5207040"/>
            <a:ext cx="158760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364B7499-2D37-49D2-8F1A-09442919B3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4160" y="1416960"/>
            <a:ext cx="827640" cy="33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nalyz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FI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TEX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D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RRO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nuVersion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FDE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NORMAL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D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YSTEM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UTIL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XMALLOC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160" y="3782160"/>
            <a:ext cx="906840" cy="932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ul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707840"/>
            <a:ext cx="841320" cy="5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21920" y="3912840"/>
            <a:ext cx="974880" cy="107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rapper sup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(Dirdoc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45960" y="1188720"/>
            <a:ext cx="1213920" cy="78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agDIFFSETTIN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= diffutils op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2920" y="493920"/>
            <a:ext cx="991440" cy="64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enerate 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hrough men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1983600"/>
            <a:ext cx="1348200" cy="17413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i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(not us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needs file fil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3440" y="1257480"/>
            <a:ext cx="592200" cy="49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iles l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2978280"/>
            <a:ext cx="73836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inM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4" idx="1"/>
          </p:cNvCxnSpPr>
          <p:nvPr/>
        </p:nvCxnSpPr>
        <p:spPr>
          <a:xfrm>
            <a:off x="2349000" y="4248000"/>
            <a:ext cx="25732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3"/>
            <a:endCxn id="41" idx="1"/>
          </p:cNvCxnSpPr>
          <p:nvPr/>
        </p:nvCxnSpPr>
        <p:spPr>
          <a:xfrm flipV="1">
            <a:off x="5896800" y="3109680"/>
            <a:ext cx="477720" cy="13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3"/>
            <a:endCxn id="41" idx="1"/>
          </p:cNvCxnSpPr>
          <p:nvPr/>
        </p:nvCxnSpPr>
        <p:spPr>
          <a:xfrm>
            <a:off x="6059880" y="1579320"/>
            <a:ext cx="314640" cy="153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3"/>
            <a:endCxn id="47" idx="1"/>
          </p:cNvCxnSpPr>
          <p:nvPr/>
        </p:nvCxnSpPr>
        <p:spPr>
          <a:xfrm flipV="1">
            <a:off x="2463840" y="285408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55" name=""/>
          <p:cNvCxnSpPr>
            <a:stCxn id="49" idx="3"/>
            <a:endCxn id="43" idx="1"/>
          </p:cNvCxnSpPr>
          <p:nvPr/>
        </p:nvCxnSpPr>
        <p:spPr>
          <a:xfrm flipV="1">
            <a:off x="964440" y="1960560"/>
            <a:ext cx="512280" cy="12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6" name=""/>
          <p:cNvCxnSpPr>
            <a:stCxn id="49" idx="3"/>
            <a:endCxn id="42" idx="1"/>
          </p:cNvCxnSpPr>
          <p:nvPr/>
        </p:nvCxnSpPr>
        <p:spPr>
          <a:xfrm>
            <a:off x="964440" y="3216240"/>
            <a:ext cx="478080" cy="103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7" name=""/>
          <p:cNvCxnSpPr>
            <a:stCxn id="46" idx="3"/>
            <a:endCxn id="45" idx="1"/>
          </p:cNvCxnSpPr>
          <p:nvPr/>
        </p:nvCxnSpPr>
        <p:spPr>
          <a:xfrm>
            <a:off x="2394360" y="815760"/>
            <a:ext cx="2451960" cy="76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8" name=""/>
          <p:cNvCxnSpPr>
            <a:stCxn id="43" idx="3"/>
            <a:endCxn id="45" idx="1"/>
          </p:cNvCxnSpPr>
          <p:nvPr/>
        </p:nvCxnSpPr>
        <p:spPr>
          <a:xfrm flipV="1">
            <a:off x="2317680" y="1579320"/>
            <a:ext cx="252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54" name=""/>
          <p:cNvSpPr/>
          <p:nvPr/>
        </p:nvSpPr>
        <p:spPr>
          <a:xfrm>
            <a:off x="1330560" y="2610000"/>
            <a:ext cx="1133280" cy="49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buff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48" idx="1"/>
          </p:cNvCxnSpPr>
          <p:nvPr/>
        </p:nvCxnSpPr>
        <p:spPr>
          <a:xfrm flipV="1">
            <a:off x="2317680" y="1503360"/>
            <a:ext cx="366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54" idx="0"/>
          </p:cNvCxnSpPr>
          <p:nvPr/>
        </p:nvCxnSpPr>
        <p:spPr>
          <a:xfrm>
            <a:off x="1896840" y="2213280"/>
            <a:ext cx="7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1" name=""/>
          <p:cNvCxnSpPr>
            <a:endCxn id="45" idx="2"/>
          </p:cNvCxnSpPr>
          <p:nvPr/>
        </p:nvCxnSpPr>
        <p:spPr>
          <a:xfrm flipV="1">
            <a:off x="4647960" y="1969920"/>
            <a:ext cx="805320" cy="19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2" name=""/>
          <p:cNvCxnSpPr>
            <a:stCxn id="42" idx="3"/>
          </p:cNvCxnSpPr>
          <p:nvPr/>
        </p:nvCxnSpPr>
        <p:spPr>
          <a:xfrm flipV="1">
            <a:off x="2349000" y="3961800"/>
            <a:ext cx="22996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2629080" cy="4698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cs &amp;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0680" y="2455560"/>
            <a:ext cx="802440" cy="111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sourc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7440" y="3988800"/>
            <a:ext cx="1070640" cy="840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r with sto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3760" y="4110480"/>
            <a:ext cx="816120" cy="5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Actio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9800" y="3569400"/>
            <a:ext cx="1311480" cy="16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One 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Handl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 display localized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>
            <a:off x="939600" y="3013200"/>
            <a:ext cx="17820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9" name=""/>
          <p:cNvCxnSpPr>
            <a:stCxn id="65" idx="3"/>
            <a:endCxn id="67" idx="1"/>
          </p:cNvCxnSpPr>
          <p:nvPr/>
        </p:nvCxnSpPr>
        <p:spPr>
          <a:xfrm flipV="1">
            <a:off x="2187720" y="44082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0" name=""/>
          <p:cNvCxnSpPr>
            <a:stCxn id="65" idx="3"/>
            <a:endCxn id="71" idx="1"/>
          </p:cNvCxnSpPr>
          <p:nvPr/>
        </p:nvCxnSpPr>
        <p:spPr>
          <a:xfrm flipV="1">
            <a:off x="2187360" y="2936520"/>
            <a:ext cx="549720" cy="14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2" name=""/>
          <p:cNvCxnSpPr>
            <a:stCxn id="67" idx="3"/>
            <a:endCxn id="66" idx="1"/>
          </p:cNvCxnSpPr>
          <p:nvPr/>
        </p:nvCxnSpPr>
        <p:spPr>
          <a:xfrm>
            <a:off x="3940200" y="4408560"/>
            <a:ext cx="2107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2740680" y="2584800"/>
            <a:ext cx="109044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Header bar (path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9000" y="721800"/>
            <a:ext cx="947160" cy="157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Statu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60480" y="679680"/>
            <a:ext cx="104472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splitter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cp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3280" y="1704600"/>
            <a:ext cx="1239840" cy="46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detail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3"/>
            <a:endCxn id="75" idx="1"/>
          </p:cNvCxnSpPr>
          <p:nvPr/>
        </p:nvCxnSpPr>
        <p:spPr>
          <a:xfrm>
            <a:off x="2125440" y="1508040"/>
            <a:ext cx="5403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7" name=""/>
          <p:cNvCxnSpPr>
            <a:stCxn id="73" idx="3"/>
            <a:endCxn id="74" idx="1"/>
          </p:cNvCxnSpPr>
          <p:nvPr/>
        </p:nvCxnSpPr>
        <p:spPr>
          <a:xfrm flipV="1">
            <a:off x="2125800" y="1031040"/>
            <a:ext cx="6307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78" name=""/>
          <p:cNvSpPr/>
          <p:nvPr/>
        </p:nvSpPr>
        <p:spPr>
          <a:xfrm>
            <a:off x="4483080" y="250920"/>
            <a:ext cx="1061640" cy="25444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yntax colored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Editable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s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2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cm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 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 for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re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760" y="737640"/>
            <a:ext cx="1264320" cy="157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dialogs search 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4" idx="3"/>
            <a:endCxn id="73" idx="1"/>
          </p:cNvCxnSpPr>
          <p:nvPr/>
        </p:nvCxnSpPr>
        <p:spPr>
          <a:xfrm flipV="1">
            <a:off x="939600" y="1507320"/>
            <a:ext cx="24012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1" name=""/>
          <p:cNvCxnSpPr>
            <a:stCxn id="73" idx="3"/>
            <a:endCxn id="71" idx="1"/>
          </p:cNvCxnSpPr>
          <p:nvPr/>
        </p:nvCxnSpPr>
        <p:spPr>
          <a:xfrm>
            <a:off x="2125440" y="1507680"/>
            <a:ext cx="61164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2" name=""/>
          <p:cNvCxnSpPr>
            <a:stCxn id="74" idx="3"/>
            <a:endCxn id="78" idx="1"/>
          </p:cNvCxnSpPr>
          <p:nvPr/>
        </p:nvCxnSpPr>
        <p:spPr>
          <a:xfrm>
            <a:off x="3809520" y="1031400"/>
            <a:ext cx="6548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3" name=""/>
          <p:cNvCxnSpPr>
            <a:stCxn id="75" idx="3"/>
            <a:endCxn id="78" idx="1"/>
          </p:cNvCxnSpPr>
          <p:nvPr/>
        </p:nvCxnSpPr>
        <p:spPr>
          <a:xfrm flipV="1">
            <a:off x="3900240" y="1523520"/>
            <a:ext cx="5641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4" name=""/>
          <p:cNvCxnSpPr>
            <a:stCxn id="78" idx="3"/>
            <a:endCxn id="79" idx="1"/>
          </p:cNvCxnSpPr>
          <p:nvPr/>
        </p:nvCxnSpPr>
        <p:spPr>
          <a:xfrm>
            <a:off x="5563800" y="1523520"/>
            <a:ext cx="22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943280" cy="4701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Frames &amp; 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51440" y="765720"/>
            <a:ext cx="1296360" cy="393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syntax par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parser langu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e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si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tc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rtr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h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ytho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ex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sr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g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o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q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java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li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ht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plusplu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sca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28600"/>
            <a:ext cx="0" cy="52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1960" y="304560"/>
            <a:ext cx="880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9160" y="2379960"/>
            <a:ext cx="1422720" cy="269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rysEdit as 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status 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lash scr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ispell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oto lin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ggle header (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928800"/>
            <a:ext cx="691200" cy="120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LOCA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main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1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CK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400" y="920160"/>
            <a:ext cx="662400" cy="81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600" y="767520"/>
            <a:ext cx="11941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nicode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3435840"/>
            <a:ext cx="921240" cy="13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lugins low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9560" y="3435120"/>
            <a:ext cx="784080" cy="10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ut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7320" y="771480"/>
            <a:ext cx="98856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ption dia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0" y="1613160"/>
            <a:ext cx="1418040" cy="38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Log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NU core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yp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et file 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&amp; Fil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heck loaded dll for ex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Files ma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400" y="771480"/>
            <a:ext cx="128088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Internet link in about 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izabl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wait cur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UI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ultim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2286000" cy="317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23:50Z</dcterms:created>
  <dc:creator>Laoran</dc:creator>
  <dc:description/>
  <dc:language>en-US</dc:language>
  <cp:lastModifiedBy>Christian Blackburn</cp:lastModifiedBy>
  <dcterms:modified xsi:type="dcterms:W3CDTF">2004-03-18T00:08:39Z</dcterms:modified>
  <cp:revision>30</cp:revision>
  <dc:subject/>
  <dc:title>Presentation of WinMerge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rogrammation\WinMerge\WinMerge tilé\____documentation file WinMerge\slides graphic forma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