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A40DE-9B77-4EEF-83ED-7001EDA62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59A51-4FAC-4771-BCAA-77D8C0690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A54CD-4666-4716-91CD-1A340CDD3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27DDB-A445-4AB6-98DE-D46186D39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B81BB-D14C-4752-B701-A1ED2F5A1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7FFC8-7AEF-4C46-81D2-0463031B6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D122C-F0FC-49B1-9022-9D9E05545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D67B3-52A4-4D14-A615-0C791D419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6BD5B-8F8F-4357-A610-8416DCAD4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DCA76-D226-4A10-9CC0-CD90FF862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7C1E5-8B6D-4DE8-9EA7-A85EDF9C5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AED4D-7117-462A-868C-A4C9D3C81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游ゴシック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13349-F5A5-4495-8633-2EF6646C45FD}" type="slidenum"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游ゴシック Light"/>
              </a:rPr>
              <a:t>test</a:t>
            </a:r>
            <a:endParaRPr b="0" lang="en-US" sz="60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游ゴシック"/>
              </a:rPr>
              <a:t>Test test</a:t>
            </a:r>
            <a:endParaRPr b="0" lang="en-US" sz="24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24T11:10:28Z</dcterms:created>
  <dc:creator/>
  <dc:description/>
  <dc:language>en-US</dc:language>
  <cp:lastModifiedBy/>
  <dcterms:modified xsi:type="dcterms:W3CDTF">2021-10-24T11:10:41Z</dcterms:modified>
  <cp:revision>1</cp:revision>
  <dc:subject/>
  <dc:title/>
</cp:coreProperties>
</file>