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AC6B1-3B9B-4940-A0C7-C2EDB5145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0B1A1-1CE8-4FE5-9E25-C46F5630D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4B5AD-1CF5-48FD-9BC7-6E20C50B5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632BD-EBE9-4F4B-97DE-3D23D4331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0C160-A4A1-47D6-9B5C-2A4F0683A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C263D-8943-43EC-AF82-943AD692D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6E3C0-FC04-4352-8945-D15ACFD03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E3D99-ED7A-4A88-ADD4-A102D2932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C2FCC-7EE4-41A5-A02E-0E9313152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1500D-B75F-4DD0-9FBF-4EAD69F68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4DFC7-2CF2-4714-9219-A1E1F69F6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17165-A09F-4BBD-8FB0-BC315A2A7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游ゴシック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6B164-D9DF-4884-A6CB-57E39C9959DD}" type="slidenum"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游ゴシック Light"/>
              </a:rPr>
              <a:t>test</a:t>
            </a:r>
            <a:endParaRPr b="0" lang="en-US" sz="60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游ゴシック"/>
              </a:rPr>
              <a:t>Test test</a:t>
            </a:r>
            <a:endParaRPr b="0" lang="en-US" sz="24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24T11:10:28Z</dcterms:created>
  <dc:creator/>
  <dc:description/>
  <dc:language>en-US</dc:language>
  <cp:lastModifiedBy/>
  <dcterms:modified xsi:type="dcterms:W3CDTF">2021-10-24T11:10:41Z</dcterms:modified>
  <cp:revision>1</cp:revision>
  <dc:subject/>
  <dc:title/>
</cp:coreProperties>
</file>