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354244"/>
        <c:axId val="1888015"/>
      </c:barChart>
      <c:catAx>
        <c:axId val="553542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8015"/>
        <c:crosses val="autoZero"/>
        <c:auto val="1"/>
        <c:lblAlgn val="ctr"/>
        <c:lblOffset val="100"/>
        <c:noMultiLvlLbl val="0"/>
      </c:catAx>
      <c:valAx>
        <c:axId val="18880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542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6FBF-A97C-4F25-BD46-450366FC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43FE-8858-4871-9BAA-98C009F1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350F-1EA3-421C-ABE6-B22B7331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8F80-81AA-4737-AA85-3E408BE6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50CB-120E-4A08-B404-91A87AAF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0856-D442-4A1C-A8BE-2594F874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641F-0623-4036-AFC0-0419A7D5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FA8D-5887-4983-B4A1-BA97B5BE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E139-B57E-49C9-BBBA-4EDE4990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A762-8307-485A-BAAA-462EFFA5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5DA2-A27F-4048-B176-B3CC7B75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465D-3E67-4506-B358-C719E7C3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DD3BA-DD50-4002-90B9-56A2420823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