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466521"/>
        <c:axId val="56267052"/>
      </c:barChart>
      <c:catAx>
        <c:axId val="774665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267052"/>
        <c:crosses val="autoZero"/>
        <c:auto val="1"/>
        <c:lblAlgn val="ctr"/>
        <c:lblOffset val="100"/>
        <c:noMultiLvlLbl val="0"/>
      </c:catAx>
      <c:valAx>
        <c:axId val="562670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4665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4412-8F90-4559-BB43-A5021EC6B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CCF4-D546-40EC-A62D-5FFE8314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6AF8-E5E2-4E1F-A5A0-2E96D6384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6DCB-774A-4AED-81D0-A515AF676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11A0-213D-43EF-B72D-A614FACB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0A80-DA0A-4265-AE8D-5A44A77A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33EA-5A08-43FB-AC29-2E641FA4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EF25-DC0B-48B2-9C38-4BE94989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9D3A-2C65-4BA9-AF54-F159D91E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9E16-F61F-4DFA-A00B-A1D2A5EB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53AF-2128-46ED-9E8D-401D40BD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FBF2-EB39-4BA0-BD1B-040A65C8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19184-1295-43D7-BFFD-622A4AA969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