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19256"/>
        <c:axId val="43870835"/>
      </c:barChart>
      <c:catAx>
        <c:axId val="50019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0835"/>
        <c:crosses val="autoZero"/>
        <c:auto val="1"/>
        <c:lblAlgn val="ctr"/>
        <c:lblOffset val="100"/>
        <c:noMultiLvlLbl val="0"/>
      </c:catAx>
      <c:valAx>
        <c:axId val="43870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19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A9D-9164-43AF-B528-181AEB4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C8A-38BD-47FE-9B43-92226F9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20F-FCB1-4EF6-AC5B-908C0C29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DEB-DBEA-48B5-9EE9-16E47443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BED-BA2A-4F76-9903-81820CE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74F-AA24-414F-AEB8-1A8885E3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295-D72A-4E72-8914-75130ABD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D1D-E68D-4116-A9F3-62F0CEEB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CCE-3AA3-4ABA-AC37-426CE086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0F9-9257-4DE4-9C67-50C4038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4A6-B494-4567-9F25-27174B2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1CE-13F6-4936-9277-E0F92F8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2342-A944-44B9-8FE1-86590D26F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