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30081"/>
        <c:axId val="23161216"/>
      </c:barChart>
      <c:catAx>
        <c:axId val="68030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61216"/>
        <c:crosses val="autoZero"/>
        <c:auto val="1"/>
        <c:lblAlgn val="ctr"/>
        <c:lblOffset val="100"/>
        <c:noMultiLvlLbl val="0"/>
      </c:catAx>
      <c:valAx>
        <c:axId val="23161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0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F58-A3F4-462E-B9B8-A776CE87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CF3-B92F-466C-AD88-E3C233FA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086-7908-4B75-AC76-D183AB0B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FA5-4B3D-41DF-B4E1-6590B14A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69A-8163-4394-81D0-FC0E6439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88B-3ED7-4929-862D-2C6D49F0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DB3-69BE-4C77-98AD-C62B052A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B71-FFE6-4F06-B759-BA94577C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8D1-C286-46F1-938E-B2ECFF2C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457-7B7E-4223-920F-09B769AB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21F-5418-49D7-AB26-2B4AB442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C72-4E0B-4B5D-BD1C-27A3DDDA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52898-2B8E-4889-99BE-63C4AFF833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