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33599"/>
        <c:axId val="87407074"/>
      </c:barChart>
      <c:catAx>
        <c:axId val="68733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7074"/>
        <c:crosses val="autoZero"/>
        <c:auto val="1"/>
        <c:lblAlgn val="ctr"/>
        <c:lblOffset val="100"/>
        <c:noMultiLvlLbl val="0"/>
      </c:catAx>
      <c:valAx>
        <c:axId val="87407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33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E02-1D66-4684-B9F4-4FFFAE21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E1C-0D5C-4873-9396-DAB36C53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90B-1E05-4AC2-86D6-733BAB7C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B1F-E85B-4724-A6D5-5CD331E7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70E-D207-49DE-AF6C-8F0017C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032-01DD-444B-BE58-5AD09F1E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359-6F87-4A06-BC34-651AADD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2DF-EAEE-483B-BF73-7B7F65B8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DB4-5A7D-449B-93D8-37C3F2FA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295-10D4-4113-9FFB-626EA59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05C-8A87-40DF-8926-1A7BB45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5E0-B2B8-4B95-A081-4502D3B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F9EDB-3F1D-4703-A213-4309E992B7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