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81726"/>
        <c:axId val="59797919"/>
      </c:barChart>
      <c:catAx>
        <c:axId val="20781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97919"/>
        <c:crosses val="autoZero"/>
        <c:auto val="1"/>
        <c:lblAlgn val="ctr"/>
        <c:lblOffset val="100"/>
        <c:noMultiLvlLbl val="0"/>
      </c:catAx>
      <c:valAx>
        <c:axId val="59797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81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D2F-41F7-47CA-8219-7F517639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A2F-CBE7-495C-8241-63FE2223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9B6-108D-4375-B9C1-9102B475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F19-6268-4DDB-9DE4-DAA2A2AB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9F0-24A5-4FD9-90B7-73F0F05D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BE7-87DE-404B-A288-13751A2F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2F5-95EE-4A69-A21D-2CFB1812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29F-8BD7-40DD-965D-238138DE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A5B-9A1D-48A8-8A01-25C59E33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226-9088-4442-ACBC-DDEEA081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464-D297-4D16-A6AC-10C8A7FD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F38-6A74-4AB2-AAFD-17467694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5856F-E798-49B0-894E-2CD3C06993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