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2981"/>
        <c:axId val="14960637"/>
      </c:barChart>
      <c:catAx>
        <c:axId val="2782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60637"/>
        <c:crosses val="autoZero"/>
        <c:auto val="1"/>
        <c:lblAlgn val="ctr"/>
        <c:lblOffset val="100"/>
        <c:noMultiLvlLbl val="0"/>
      </c:catAx>
      <c:valAx>
        <c:axId val="14960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2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A25-B3B6-4F4C-BCB4-04781765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AC7-E8DD-46FB-80CC-D531DB96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FC7-6BB9-4DDC-98A4-B0549C8B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E03-59D4-4F91-87A6-6632BC64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232-3B37-462F-B323-8FB4AC67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AB4-A797-41E3-A84E-8E0E2959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5E1-B27F-4B0C-A185-8645EEA2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771-2496-487F-B0D8-C676EE8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8A0-570C-4482-A585-BA1DA21F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FDE-32BA-411B-A40F-4F23AEED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561-66CD-4A8F-8A7C-A0AD2E64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2B2-A8CC-4FB8-A9DB-4B51393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9EA94-6D76-417D-ADA8-4AB098D824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