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40258"/>
        <c:axId val="90393329"/>
      </c:barChart>
      <c:catAx>
        <c:axId val="93840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393329"/>
        <c:crosses val="autoZero"/>
        <c:auto val="1"/>
        <c:lblAlgn val="ctr"/>
        <c:lblOffset val="100"/>
        <c:noMultiLvlLbl val="0"/>
      </c:catAx>
      <c:valAx>
        <c:axId val="90393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40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C28-C613-45B0-8DA9-F69657CB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D9A-9791-4ACA-844F-2645991F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1EE-5C1B-4CCA-9328-DDCB1A44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C2A8-22FA-485B-8B65-577610A1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3A3-3BD3-4475-AFEC-78F426B8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F42-EF7A-453F-AC1E-F57166EC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1B1-A904-4DCB-9B94-810828DA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7798-E13F-4B2F-B1FD-16EE7941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60A8-DEDF-4A26-AA81-1A8859C7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D4E-CB82-4648-BC31-62399415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C285-E380-4523-ABB3-CCFE843E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871B-66F4-4CFA-8B5D-BD16F7D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A8330-8D96-4D38-8D52-1EB45ADFBB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